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7CB-4E10-4B2B-8A26-3DAD41A130CF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218-11BA-4671-B791-020625692A10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0E6-EEEC-4DCA-8274-3540B1E1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72E-E831-4AAE-8EE9-4982AC2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AA5-A66F-4EAC-BDB8-9EA3895F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33A-91A9-4F23-A7DE-D0260E25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0F43-17D2-43F1-BB61-D75885AE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C1F-B156-4031-AA9E-09FF7988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1AF-F994-4509-BBBD-EB196948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D740-CEC5-4BB3-B788-184F05A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474-A759-433C-A569-7B2CFE8E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3FE8-E7C9-4E3E-8AD4-D730454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C330-7D6A-4A34-B7C8-D74B67C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32F-8926-4B2A-9A26-1EE1AE57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718A-7287-43BC-95E2-08F9E13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F237-BEFA-4297-8E18-C211907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49C-C334-4C13-8F3F-DE1993E4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5173-2181-49A8-94F5-F1D01A3C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3C2-40CB-414A-A9EB-2A683C0B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2CC5-5E88-49D1-8139-C7DD9893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E84A-210A-4E09-923F-1D270E4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D117-6142-4326-94AA-5CFC8E1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068E-737E-4F35-AE6A-3FF9C970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46D5-F4BE-434C-937A-8F4DC74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52E-3E17-4ABF-B20C-790B1AC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DED6-21F0-4CF4-8A70-A7682089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8725-1A5D-4681-BDB8-33543FD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382B-73ED-4A85-9CE2-491FFB1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F89E-A2B0-42B7-9455-F281F82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1115-1C5B-46DC-9167-ECE6B2D7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FBFD-E8DD-4C8F-8BAF-A02847B6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353E-061F-4DDD-9019-EAA7806F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054-A51B-4200-8325-291708D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7F8-D12E-4256-9130-627990B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0AF-CE3E-4AEB-B451-A786AB7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A22-52C0-473B-B001-C2F5699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4FA-54E0-41C4-AEB8-FE2401D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C1D-7E0F-4879-BBD5-9CA3318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F892-A322-47B7-8205-57038A8C7402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F6A-6167-4196-9B08-4B5A1CC52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045-A19B-4859-B87F-7DE87C13F29D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6BA-1A18-4E9A-8FE8-0BB790BD61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DFC-11C8-4515-9C04-16518E583BD8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FB11-BDBF-4B73-9DAE-636A82843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2  Pengembangan Rencana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Logo Kementan.jpg"/>
          <p:cNvPicPr/>
          <p:nvPr/>
        </p:nvPicPr>
        <p:blipFill>
          <a:blip r:embed="rId2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3F5-B029-4DC7-BAE9-F786A8BAEEFC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Calibri"/>
              </a:rPr>
              <a:t>Ber</a:t>
            </a:r>
            <a:r>
              <a:rPr b="1" lang="id-ID" sz="3600" spc="-1" strike="noStrike">
                <a:solidFill>
                  <a:srgbClr val="254061"/>
                </a:solidFill>
                <a:latin typeface="Calibri"/>
              </a:rPr>
              <a:t>jangka </a:t>
            </a:r>
            <a:r>
              <a:rPr b="1" lang="en-US" sz="3600" spc="-1" strike="noStrike">
                <a:solidFill>
                  <a:srgbClr val="254061"/>
                </a:solidFill>
                <a:latin typeface="Calibri"/>
              </a:rPr>
              <a:t>w</a:t>
            </a:r>
            <a:r>
              <a:rPr b="1" lang="id-ID" sz="3600" spc="-1" strike="noStrike">
                <a:solidFill>
                  <a:srgbClr val="254061"/>
                </a:solidFill>
                <a:latin typeface="Calibri"/>
              </a:rPr>
              <a:t>aktu (</a:t>
            </a:r>
            <a:r>
              <a:rPr b="1" i="1" lang="id-ID" sz="3600" spc="-1" strike="noStrike">
                <a:solidFill>
                  <a:srgbClr val="254061"/>
                </a:solidFill>
                <a:latin typeface="Calibri"/>
              </a:rPr>
              <a:t>tim</a:t>
            </a:r>
            <a:r>
              <a:rPr b="1" i="1" lang="en-US" sz="3600" spc="-1" strike="noStrike">
                <a:solidFill>
                  <a:srgbClr val="254061"/>
                </a:solidFill>
                <a:latin typeface="Calibri"/>
              </a:rPr>
              <a:t>e-bound</a:t>
            </a:r>
            <a:r>
              <a:rPr b="1" i="1" lang="id-ID" sz="36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a batas waktu yang jelas sesuai dengan besar dan alokasi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nggaran, strategi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giatannya, hasil dan manfaat yang diharapk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pabila tidak menetapkan jangka waktu yang jelas, berisiko perkembangan akan terlamb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erjadinya peningkatan anggaran kesehat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hewan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besar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10% pada tahun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rencanakan m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masukkan usulan realokasi anggaran tahu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berjalan pada pembahasan Perubahan APBD di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bulan Ju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CC5-CA84-4C5B-AE5D-D16F2A219FAE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800" spc="-1" strike="noStrike">
                <a:solidFill>
                  <a:srgbClr val="558ed5"/>
                </a:solidFill>
                <a:latin typeface="Calibri"/>
              </a:rPr>
              <a:t>Contoh</a:t>
            </a:r>
            <a:br>
              <a:rPr sz="3800"/>
            </a:br>
            <a:r>
              <a:rPr b="1" lang="en-US" sz="3800" spc="-1" strike="noStrike">
                <a:solidFill>
                  <a:srgbClr val="558ed5"/>
                </a:solidFill>
                <a:latin typeface="Calibri"/>
              </a:rPr>
              <a:t>T</a:t>
            </a:r>
            <a:r>
              <a:rPr b="1" lang="id-ID" sz="3800" spc="-1" strike="noStrike">
                <a:solidFill>
                  <a:srgbClr val="558ed5"/>
                </a:solidFill>
                <a:latin typeface="Calibri"/>
              </a:rPr>
              <a:t>ujuan dalam advokasi anggara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1258920" y="1844640"/>
            <a:ext cx="6842160" cy="947160"/>
          </a:xfrm>
          <a:prstGeom prst="rect">
            <a:avLst/>
          </a:prstGeom>
          <a:solidFill>
            <a:srgbClr val="ddd9c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laksananya v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aksina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400 ekor anjing di Kabupaten Barru selama tahun 2014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D711-9454-4BCD-8260-63912DD0AEAE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2.2  Penetapan targe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halayak </a:t>
            </a: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dalam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Logo Kementan.jpg"/>
          <p:cNvPicPr/>
          <p:nvPr/>
        </p:nvPicPr>
        <p:blipFill>
          <a:blip r:embed="rId2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A55B-D685-49D0-AFD3-5E0D83C70759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e46c0a"/>
                </a:solidFill>
                <a:latin typeface="Calibri"/>
              </a:rPr>
              <a:t>Siapa target </a:t>
            </a: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khalayak </a:t>
            </a:r>
            <a:r>
              <a:rPr b="1" lang="id-ID" sz="3600" spc="-1" strike="noStrike">
                <a:solidFill>
                  <a:srgbClr val="e46c0a"/>
                </a:solidFill>
                <a:latin typeface="Calibri"/>
              </a:rPr>
              <a:t>ki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Calibri"/>
              </a:rPr>
              <a:t>Memahami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halayak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dalah faktor penting dalam melakukan komunikasi yang efekti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Calibri"/>
              </a:rPr>
              <a:t>Mengetahui siap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halayak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kita akan memungkinkan kita untuk membuat struktur presentasi kita, sehingga mereka mengerti d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rtarik untuk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mendengarkan pesan yang disampaik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engi</a:t>
            </a:r>
            <a:r>
              <a:rPr b="1" lang="id-ID" sz="3000" spc="-1" strike="noStrike">
                <a:solidFill>
                  <a:srgbClr val="000000"/>
                </a:solidFill>
                <a:latin typeface="Calibri"/>
              </a:rPr>
              <a:t>dentifikasi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halayak </a:t>
            </a:r>
            <a:r>
              <a:rPr b="1" lang="id-ID" sz="3000" spc="-1" strike="noStrike">
                <a:solidFill>
                  <a:srgbClr val="000000"/>
                </a:solidFill>
                <a:latin typeface="Calibri"/>
              </a:rPr>
              <a:t>kita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dan memahami karakteristik mereka ak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mbantu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kita dalam menggunakan pendekatan yang efekti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640-C106-4CFD-96CF-67631612C60E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7030a0"/>
                </a:solidFill>
                <a:latin typeface="Calibri"/>
              </a:rPr>
              <a:t>Target Audiens sangat pent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ing untuk 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mahami siapa target audiens dalam advokasi anggar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eper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utama: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ihak-pihak yang memiliki kekuasaan dalam memenuhi tuntutan advokas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g bis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enuhi tuntutan advokas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arget sekun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hak-pihak yang kurang spesifik namun sama pentingny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lam penentuan keputusan angga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9B57-0E01-4D6B-92FB-0C42081B6C60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Khalayak </a:t>
            </a: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non-ilmi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da banyak kesamaan umum antara audiens non-ilmiah yang berbeda-be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umnya mereka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miliki pengetahuan terbat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tang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tematik d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ggunaan data yang tepat dan cara penyajiannya penting sehingga data dapat diinterpretasikan dengan baik oleh khalayak in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ntuk mendukung kesimpulan-kesimpulan ki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46E-0FD7-4260-B7AD-772A01D1DE9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0070c0"/>
                </a:solidFill>
                <a:latin typeface="Calibri"/>
              </a:rPr>
              <a:t>Tujuan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enyampaikan </a:t>
            </a:r>
            <a:r>
              <a:rPr b="1" lang="id-ID" sz="3200" spc="-1" strike="noStrike">
                <a:solidFill>
                  <a:srgbClr val="0070c0"/>
                </a:solidFill>
                <a:latin typeface="Calibri"/>
              </a:rPr>
              <a:t>informasi ilmiah ke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halayak </a:t>
            </a:r>
            <a:r>
              <a:rPr b="1" lang="id-ID" sz="3200" spc="-1" strike="noStrike">
                <a:solidFill>
                  <a:srgbClr val="0070c0"/>
                </a:solidFill>
                <a:latin typeface="Calibri"/>
              </a:rPr>
              <a:t>non-ilmi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ntuk meningkatkan pengetahuan, instruksi, fasilitasi informasi yang sudah diputuskan, atau untuk membujuk mer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 kalangan pemerintah,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advokasi anggaran adalah untuk membujuk para pengambil keputusan untuk mengalokasikan anggar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esuai usulan ki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Komunikasi yang baik akan memperbaiki peluang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diterimanya usulan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ki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7E2F-8E2A-4630-AB75-9D47079D35A3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Hal-hal penting dalam menyampaikan pesan ke khala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907560"/>
            <a:ext cx="793116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Gunakan juml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nformasi/data secara minimal dan hany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g 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at rele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Gunakan jenis data dan paparan yang bagi audiens sudah dianggap terbi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ka menyampaikan angka g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unak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gk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c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Contoh: 7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ri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0 kasus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lebi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dah dimengerti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ripada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7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erangkan arti data atau anali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gan penjelas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ederha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J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anggapan khalayak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k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gerti dan b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nyimpulkan data yang disampaik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unakan bahasa sederhana dan hindari kata-kata atau istilah 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526-37A8-4D85-92EE-F18ECBA52ACD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2.3 Pelajari motivasi penting dari pengambil keputu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Logo Kementan.jpg"/>
          <p:cNvPicPr/>
          <p:nvPr/>
        </p:nvPicPr>
        <p:blipFill>
          <a:blip r:embed="rId2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02D4-0F90-453D-A069-3F6974F9D41D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Motivasi pengambil keputus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otivasi personal/priba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otivasi pol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EF4F-68D0-4D66-B01F-E9CAF6049906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558ed5"/>
                </a:solidFill>
                <a:latin typeface="Calibri"/>
              </a:rPr>
              <a:t>Tujuan dari sesi 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akhir ses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serta mampu untuk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lask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tingnya penetapan tujuan dalam advokasi angga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jelask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tingnya siapa targ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halayak (audience)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lam advokasi angga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hami pentingnya motivasi pengambil keputusan d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aing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(kompetitor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lam advokasi anggar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871-3E6B-4E16-80D2-33240C91B590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604a7b"/>
                </a:solidFill>
                <a:latin typeface="Calibri"/>
              </a:rPr>
              <a:t>1. Motivasi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26792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hami motivasi personal/pribadi akan memberikan petunjuk mengapa proposal kita bisa menjadi penting bagi pengambil keputu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Jika proposal kita kepada pengambil keputusan dipresentasikan dengan cara yang selaras dengan motivasi pengambil keputusan, maka proposal kita cenderung akan lebih diter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654-82B6-4F49-BEF1-722C7716CF72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Tiga </a:t>
            </a:r>
            <a:r>
              <a:rPr b="1" lang="id-ID" sz="3600" spc="-1" strike="noStrike">
                <a:solidFill>
                  <a:srgbClr val="953735"/>
                </a:solidFill>
                <a:latin typeface="Calibri"/>
              </a:rPr>
              <a:t>kategori besar motivasi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440" y="765000"/>
            <a:ext cx="8302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4000" indent="-324000">
              <a:buClr>
                <a:srgbClr val="ff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ff0000"/>
                </a:solidFill>
                <a:latin typeface="Calibri"/>
              </a:rPr>
              <a:t>Pencapa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7000" indent="-2430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pabila seorang pengambil keputusan dimotivasi oleh pencapaian dan mereka fokus sangat kuat pada peningkatan produksi ternak, presentasi informasi probabilitas daya tahan ternak (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survival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) dari suatu penyakit berpotensi lebih berhasil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7000" indent="-2430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dangk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pabila orang terse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fokus pada penurunan penyakit hewan, mak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aji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nformas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ang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robabilitas kemati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peluang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lebih berhas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ff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ff0000"/>
                </a:solidFill>
                <a:latin typeface="Calibri"/>
              </a:rPr>
              <a:t>Kekuasa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7000" indent="-2430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pabila seorang pengambil keputusan dimotivasi oleh kekuasaan dan mereka fokus sangat kuat mengarahkan institusi-nya ke satu tujuan tertentu, akan lebih berhasil apabila presentasi proposal anda mengikuti visi misi institusi terse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B30-D5B8-40D5-BC06-3BEFEDCC9DD3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2700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ff0000"/>
                </a:solidFill>
                <a:latin typeface="Calibri"/>
              </a:rPr>
              <a:t>Afili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700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bila pengambil keputusan dimotivasi dengan memiliki hubungan personal yang positif dan memiliki interes pribadi yang kuat dal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ggemukan, misalnya, maka advokasi anda paling baik dipresentasikan dengan mengdemonstrasikan keuntungannya terhadap penggemukan sap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n melibatkan kelompo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ggemukan s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A60-8A27-447E-9C22-3EC17B28EE97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b050"/>
                </a:solidFill>
                <a:latin typeface="Calibri"/>
              </a:rPr>
              <a:t>2. Motivasi polit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7772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eseorang akan membuat keputusan yang lebih baik apabila motivasi personal diinteraksikan dengan situasi politik di tempat kerja, organisasi, masyarak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ambil keputusan mempertimbangkan motivasi politis karena mereka membantu memanipulasi lingkungan menuju pencapaian tuj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putusan berdasarkan motivasi polit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kup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trateg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pat terjadi pada tingkat pribadi, kelompok ata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organis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D60-ADC4-423F-A3B9-3084F50065AF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400" spc="-1" strike="noStrike">
                <a:solidFill>
                  <a:srgbClr val="c00000"/>
                </a:solidFill>
                <a:latin typeface="Calibri"/>
              </a:rPr>
              <a:t>Keuntungan motivasi pol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enyajian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informasi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selaras dengan motivasi politik membantu membujuk pengambil keputusa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dan berpeluang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usulan diterim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ff0000"/>
                </a:solidFill>
                <a:latin typeface="Calibri"/>
              </a:rPr>
              <a:t>Pencapaian untuk organisasi, maka keputusan akan lebih selaras dengan tujuan organisas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ff0000"/>
                </a:solidFill>
                <a:latin typeface="Calibri"/>
              </a:rPr>
              <a:t>Apabila kekuasaan personal, keputusan mungkin saja berlawanan dengan tujuan organisasi dan lebih berpihak pada motivasi person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900" spc="-1" strike="noStrike">
                <a:solidFill>
                  <a:srgbClr val="ff0000"/>
                </a:solidFill>
                <a:latin typeface="Calibri"/>
              </a:rPr>
              <a:t>Jika ada suatu afiliasi, maka harus dipertahankan hubungan positif dengan berbagai pihak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387-E242-43ED-AD99-FE8CBA506D35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2.4  Pentingnya kompetisi dalam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Logo Kementan.jpg"/>
          <p:cNvPicPr/>
          <p:nvPr/>
        </p:nvPicPr>
        <p:blipFill>
          <a:blip r:embed="rId2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2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8AC-53BF-4084-B96D-347B30527CC9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Sumber daya </a:t>
            </a:r>
            <a:r>
              <a:rPr b="1" lang="id-ID" sz="3600" spc="-1" strike="noStrike">
                <a:solidFill>
                  <a:srgbClr val="984807"/>
                </a:solidFill>
                <a:latin typeface="Calibri"/>
              </a:rPr>
              <a:t>terbata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nya 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ggar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en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umberday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rbatas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, sehingga selalu ada kompetis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tuk mendapatk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lokasi angga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hami bahwa alokasi anggaran adalah hal yang kompetitif akan membantu kita mengembangkan strategi strategi advokasi anggar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ta perlu mengetahui kompetitor kita, apa perminta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y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, mengapa merek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gajukan anggaran/sumber day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erse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gan pengetahuan ini maka kita dapat menentukan strategi advokasi sesuai dengan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otivasi pengambil keputu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DC68-F132-4DD7-855C-E01F3226584C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376092"/>
                </a:solidFill>
                <a:latin typeface="Calibri"/>
              </a:rPr>
              <a:t>Analisis  S W O 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268280"/>
            <a:ext cx="81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4600" indent="-264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nalisis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dapat membantu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ta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gembangkan strategi untuk menghadapi alokasi yang kompet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ngetahu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ntang kepentingan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kompetitor akan membantu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ita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gembangkan strateg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ntuk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capai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berhasilan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advokasi anggaran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CEAA-D98B-49D8-94A2-1E46F5FC6A2D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376092"/>
                </a:solidFill>
                <a:latin typeface="Calibri"/>
              </a:rPr>
              <a:t>Kesimpu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Dina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ab/kota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yang menangani fungsi Kesw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rus memiliki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strategi jelas untuk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ngupayakan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anggaran Keswa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yang cukup dan proporsional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 dengan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etapkan tujuan yang 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gidentifikasi  targ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hla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mahami motivasi pengambil keput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- Memahami kompeti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63F-0D07-4695-915A-3E86D794A646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Diskusi kelomp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serta dibagi menjadi 4-5 kelompok dan masing-masing kelompok mendiskusikan satu contoh advokasi anggaran keswan dengan menentuk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ujuan-nya (dibuktikan dengan SM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arg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halayak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, d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ompetitor-ny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9657-99AB-4D5F-A242-AAA247FBCC45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Daftar Is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0000" indent="-1170000"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2.1 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enetapan tujuan dalam Advokasi Anggar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170000" indent="-1170000"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1.2.2 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enetapan targe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halayak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dalam Advokasi Anggar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170000" indent="-1170000"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elajari motivasi penting dari pengambil keputus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170000" indent="-1170000"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1.2.4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entingnya persaingan dalam Advokasi Anggar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08A-AE32-4E7E-9457-98F3BDB14935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1.2.1  Penetapan tujuan dalam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Logo Kementan.jpg"/>
          <p:cNvPicPr/>
          <p:nvPr/>
        </p:nvPicPr>
        <p:blipFill>
          <a:blip r:embed="rId2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3F4-6567-44CF-943B-D9178F4B5E4C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Gunakan </a:t>
            </a:r>
            <a:r>
              <a:rPr b="1" lang="id-ID" sz="3600" spc="-1" strike="noStrike">
                <a:solidFill>
                  <a:srgbClr val="604a7b"/>
                </a:solidFill>
                <a:latin typeface="Calibri"/>
              </a:rPr>
              <a:t>SMART</a:t>
            </a: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 dalam rumusan Tuju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125000"/>
            <a:ext cx="822960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ujuan haruslah kongk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ggunakan indikator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    =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Specific (spesifik – tidak umu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khusus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  =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Measureable (teruku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   =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ievable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 (dapat dicapa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   =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Realistic (realisti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logis, masuk akal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   =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Tim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bound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a 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jangka wa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831960" y="2349360"/>
            <a:ext cx="576000" cy="3024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4680-2E0A-4244-87DF-74AB5FA7A0A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468360" y="5589720"/>
            <a:ext cx="698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tat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tuk rumusan Tujuan dan SMART lihat buku pegangan “</a:t>
            </a:r>
            <a:r>
              <a:rPr b="0" lang="id-ID" sz="1400" spc="-1" strike="noStrike">
                <a:solidFill>
                  <a:srgbClr val="000000"/>
                </a:solidFill>
                <a:latin typeface="Arial"/>
                <a:ea typeface="Arial"/>
              </a:rPr>
              <a:t>Paket Bimbingan Teknis Perencanaan Dan Penganggaran Kesehatan Hewan Di Indone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Tidak umu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khusus</a:t>
            </a: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id-ID" sz="36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Tujuan harus jelas, dibentuk dengan baik, dan spesifi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Tujuan harus dapat diukur di masa depan jika tujuan telah dicapai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Calibri"/>
              </a:rPr>
              <a:t>Penekanan pada </a:t>
            </a:r>
            <a:r>
              <a:rPr b="1" lang="id-ID" sz="2900" spc="-1" strike="noStrike">
                <a:solidFill>
                  <a:srgbClr val="000000"/>
                </a:solidFill>
                <a:latin typeface="Calibri"/>
              </a:rPr>
              <a:t>“t</a:t>
            </a:r>
            <a:r>
              <a:rPr b="1" lang="fi-FI" sz="2900" spc="-1" strike="noStrike">
                <a:solidFill>
                  <a:srgbClr val="000000"/>
                </a:solidFill>
                <a:latin typeface="Calibri"/>
              </a:rPr>
              <a:t>indakan bukan masalah</a:t>
            </a:r>
            <a:r>
              <a:rPr b="1" lang="id-ID" sz="29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fi-FI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id-ID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Meningkatnya </a:t>
            </a:r>
            <a:r>
              <a:rPr b="0" i="1" lang="id-ID" sz="2900" spc="-1" strike="noStrike">
                <a:solidFill>
                  <a:srgbClr val="000000"/>
                </a:solidFill>
                <a:latin typeface="Calibri"/>
              </a:rPr>
              <a:t>tingkat kelahiran anak sapi melalui pengendalian brucellosis”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id-ID" sz="2900" spc="-1" strike="noStrike">
                <a:solidFill>
                  <a:srgbClr val="000000"/>
                </a:solidFill>
                <a:latin typeface="Calibri"/>
              </a:rPr>
              <a:t>(bukan sekedar menghentikan penyebaran brucellosi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E72-91A2-4215-BE5C-1608750E5434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Calibri"/>
              </a:rPr>
              <a:t>Terukur</a:t>
            </a:r>
            <a:r>
              <a:rPr b="1" lang="id-ID" sz="3600" spc="-1" strike="noStrike">
                <a:solidFill>
                  <a:srgbClr val="953735"/>
                </a:solidFill>
                <a:latin typeface="Calibri"/>
              </a:rPr>
              <a:t> (</a:t>
            </a:r>
            <a:r>
              <a:rPr b="1" i="1" lang="id-ID" sz="3600" spc="-1" strike="noStrike">
                <a:solidFill>
                  <a:srgbClr val="953735"/>
                </a:solidFill>
                <a:latin typeface="Calibri"/>
              </a:rPr>
              <a:t>measureabl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umberdaya yang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iajukan harus terukur dengan jelas, jika tidak akan sulit mengelolany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Pengukuran” merujuk pada </a:t>
            </a:r>
            <a:r>
              <a:rPr b="1" lang="id-ID" sz="3100" spc="-1" strike="noStrike">
                <a:solidFill>
                  <a:srgbClr val="000000"/>
                </a:solidFill>
                <a:latin typeface="Calibri"/>
              </a:rPr>
              <a:t>jumlah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ana yang diajukan </a:t>
            </a:r>
            <a:r>
              <a:rPr b="0" lang="sv-SE" sz="3100" spc="-1" strike="noStrike">
                <a:solidFill>
                  <a:srgbClr val="000000"/>
                </a:solidFill>
                <a:latin typeface="Calibri"/>
              </a:rPr>
              <a:t>untuk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 dialokasikan atau dibelanjaka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fi-FI" sz="2900" spc="-1" strike="noStrike">
                <a:solidFill>
                  <a:srgbClr val="000000"/>
                </a:solidFill>
                <a:latin typeface="Calibri"/>
              </a:rPr>
              <a:t>Kami mengajukan Rp. 100 milyar, untuk</a:t>
            </a:r>
            <a:r>
              <a:rPr b="0" i="1" lang="id-ID" sz="2900" spc="-1" strike="noStrike">
                <a:solidFill>
                  <a:srgbClr val="000000"/>
                </a:solidFill>
                <a:latin typeface="Calibri"/>
              </a:rPr>
              <a:t> dialokasikan pada program pemberantasan brucellosis” (Bukan sekedar “pemerintah harus mengalokasikan untuk pemberantasan penyakit hewan menular”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893-903D-4DE7-AEC3-D9188D484379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95959"/>
                </a:solidFill>
                <a:latin typeface="Calibri"/>
              </a:rPr>
              <a:t>Dapat </a:t>
            </a: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d</a:t>
            </a:r>
            <a:r>
              <a:rPr b="1" lang="id-ID" sz="3600" spc="-1" strike="noStrike">
                <a:solidFill>
                  <a:srgbClr val="595959"/>
                </a:solidFill>
                <a:latin typeface="Calibri"/>
              </a:rPr>
              <a:t>icapai (</a:t>
            </a:r>
            <a:r>
              <a:rPr b="1" i="1" lang="en-US" sz="3600" spc="-1" strike="noStrike">
                <a:solidFill>
                  <a:srgbClr val="595959"/>
                </a:solidFill>
                <a:latin typeface="Calibri"/>
              </a:rPr>
              <a:t>achievable</a:t>
            </a:r>
            <a:r>
              <a:rPr b="1" i="1" lang="id-ID" sz="3600" spc="-1" strike="noStrike">
                <a:solidFill>
                  <a:srgbClr val="595959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Tujuan harus praktis, layak, dan cenderung untuk dicapai dengan jumlah anggaran yang dimin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ika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tujuan diluar </a:t>
            </a: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kemampuan kita maka tidak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ak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 komitmen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untuk melakukanny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Memberantas brucellosis”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bukan sesuatu yang dapat dicapai dalam waktu dek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Alternatifnya: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”Mengadakan program uji dan potong dengan anggaran kompensasi sebanyak 100 ekor untuk mengurangi jumlah reaktor brucellosi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5A77-D83F-46AC-AD2D-0925509FBF40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4f6228"/>
                </a:solidFill>
                <a:latin typeface="Calibri"/>
              </a:rPr>
              <a:t>Realistis (</a:t>
            </a:r>
            <a:r>
              <a:rPr b="1" i="1" lang="id-ID" sz="3600" spc="-1" strike="noStrike">
                <a:solidFill>
                  <a:srgbClr val="4f6228"/>
                </a:solidFill>
                <a:latin typeface="Calibri"/>
              </a:rPr>
              <a:t>realisti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mpertimbangkan realitas politik, tidak terlalu besar atau terlalu ke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hatik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isiko dal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netapkan kelu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Hindarkan risiko upaya sia-sia dalam menghasilkan output yang kemudian diabai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entukan renca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ealist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pa yang dapat kita ajukan untuk realokasi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pada Perubahan APB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pa yang kita ajukan untuk perubahan anggaran tahun depan (bukan tahun i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161-7B34-44E3-8516-65E6A5D70B99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4:19:06Z</dcterms:created>
  <dc:creator>Evan Sergeant</dc:creator>
  <dc:description/>
  <dc:language>en-US</dc:language>
  <cp:lastModifiedBy>Valeska</cp:lastModifiedBy>
  <dcterms:modified xsi:type="dcterms:W3CDTF">2015-03-23T06:23:39Z</dcterms:modified>
  <cp:revision>125</cp:revision>
  <dc:subject/>
  <dc:title>Using iSIKHNAS for Budget Advocacy</dc:title>
</cp:coreProperties>
</file>