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0B4E-6AF7-431A-88D0-EE88BEBF153C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EDFA-2B1F-4766-8478-0980A1F7225E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D9E-AECB-45AB-9155-BF58059D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388-EBE8-4C41-A411-B6C5622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825-A37E-45AD-AC85-187A4DF8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DE8-A134-40A0-8D9F-F615D901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428-F84F-4AB0-AE3C-001F34B3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AF2-871E-4CF3-90A5-D400406C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5737-66CD-4A1D-A5FB-66551503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5C7-6217-4BCA-B372-7F23A706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1516-07CD-406E-919C-0DF40817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6BA-36A0-4D12-BA9A-2A56E0B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9341-FEB2-4425-9F94-A95464B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318-8E2D-44E8-BEED-2FF0670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DA69-B73A-458D-BC74-A427EF5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7769-0BC6-4A6E-A72A-B732C79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783D-5232-436F-8482-C13C08A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926C-35B7-4481-8B25-20C863B7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E11D-DBCC-461E-A6C9-249934E6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3633-4665-45ED-8D45-7DBD6FB8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C63F-A466-420C-B1E2-A8A7450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AA71-494C-4680-ADA3-2968D1AA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A5C8-D60E-450B-820D-13252693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AD1D-9282-42C8-A303-026E174C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FD3-DDD7-4C71-B050-DFCF7D0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AE01-6E9F-48D8-9955-A3DD5DA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760D-73EE-4368-91CE-D0EB132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1CCB-C6FA-4243-AC28-4623E64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2CA3-B273-40AC-8030-9325A30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5029-78F7-447B-A234-8E44858B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93AF-4185-449E-8634-F4BDCA1C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6DCD-B079-4B57-8E2D-0B00683E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A46-71B0-412F-84FD-1827A2AF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1A4-7579-483A-887C-9BEAE2C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C0A-2482-40B5-ADCF-6CB01106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FA2-BFA1-442E-8CE3-5056224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68D-4560-4AB4-9069-40C02B1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AB5-183E-4EE7-960D-5D6B9A6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E3C6-AEE9-47B0-B2C9-30F5BEA1991D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3A6-B8D8-40B5-B098-09D24C85C3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Logo Kementan.jpg"/>
          <p:cNvPicPr/>
          <p:nvPr/>
        </p:nvPicPr>
        <p:blipFill>
          <a:blip r:embed="rId4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F0A5-DCF1-4DDE-87DF-A197CB360A14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6834-11AB-454C-BA87-276CD42C1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Logo Kementan.jpg"/>
          <p:cNvPicPr/>
          <p:nvPr/>
        </p:nvPicPr>
        <p:blipFill>
          <a:blip r:embed="rId3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usAID kangaroo logo.jpg"/>
          <p:cNvPicPr/>
          <p:nvPr/>
        </p:nvPicPr>
        <p:blipFill>
          <a:blip r:embed="rId4"/>
          <a:stretch/>
        </p:blipFill>
        <p:spPr>
          <a:xfrm>
            <a:off x="457200" y="274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3881520" y="189000"/>
            <a:ext cx="1411200" cy="72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299D-60A3-4FC5-AAEA-65AE34EEEDDD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CB3-9232-4A24-8027-2C6AD57531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200" spc="-1" strike="noStrike">
                <a:solidFill>
                  <a:srgbClr val="000000"/>
                </a:solidFill>
                <a:latin typeface="Calibri"/>
              </a:rPr>
              <a:t>1.1  Pengantar Advokasi Anggaran dan Mengapa Penting dalam Pengendalian Penyakit Hewa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872-793A-4445-B4A6-365E72C6E85C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200" spc="-1" strike="noStrike">
                <a:solidFill>
                  <a:srgbClr val="000000"/>
                </a:solidFill>
                <a:latin typeface="Calibri"/>
              </a:rPr>
              <a:t>Advokasi anggaran kesehatan hewa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ya dalam menggunakan informasi kesehatan hew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yusun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encana strategis untuk menegosiasikan alokasi anggaran (sumberdaya) untuk meningkatkan kesehatan hew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D909-E0A3-4F6A-B212-8144C3A3E56A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200" spc="-1" strike="noStrike">
                <a:solidFill>
                  <a:srgbClr val="984807"/>
                </a:solidFill>
                <a:latin typeface="Calibri"/>
              </a:rPr>
              <a:t>Advokasi anggaran keswa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748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895480" y="4108320"/>
            <a:ext cx="3353040" cy="20574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gun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formasi tep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n aku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33520" y="1523880"/>
            <a:ext cx="4267080" cy="233676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2336760"/>
              <a:gd name="textAreaBottom" fmla="*/ 2337120 h 23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9" y="0"/>
                </a:lnTo>
                <a:lnTo>
                  <a:pt x="21600" y="10800"/>
                </a:lnTo>
                <a:lnTo>
                  <a:pt x="16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  <a:ea typeface="Arial"/>
              </a:rPr>
              <a:t>Rencana strate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586480" y="1413000"/>
            <a:ext cx="2730600" cy="2557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pe</a:t>
            </a:r>
            <a:r>
              <a:rPr b="1" lang="id-ID" sz="2800" spc="-1" strike="noStrike">
                <a:solidFill>
                  <a:srgbClr val="ffffff"/>
                </a:solidFill>
                <a:latin typeface="Arial"/>
                <a:ea typeface="Arial"/>
              </a:rPr>
              <a:t>ngar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rial"/>
                <a:ea typeface="Arial"/>
              </a:rPr>
              <a:t>keput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2209320" y="509904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V="1">
            <a:off x="2209680" y="387936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6248520" y="50227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6934320" y="395568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FC93-5CB0-450D-8933-DA58C9FB87A3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53735"/>
                </a:solidFill>
                <a:latin typeface="Calibri"/>
              </a:rPr>
              <a:t>Syarat </a:t>
            </a:r>
            <a:r>
              <a:rPr b="1" lang="id-ID" sz="4000" spc="-1" strike="noStrike">
                <a:solidFill>
                  <a:srgbClr val="953735"/>
                </a:solidFill>
                <a:latin typeface="Calibri"/>
              </a:rPr>
              <a:t>Advokasi Anggaran Kesw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mampuan untuk mempengaruhi pengambil keputusan mengenai anggaran memerluk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terampi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strategi komunikasi yang ba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ham siapa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gambil keputusa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imana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bijakan dan prioritas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ham siapa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sa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ompetitor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lam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lokasi anggaran kesw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rseb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pu menyajik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asalah kesehatan hewan atau produksi dengan analisa ekonomi dan perkira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butuh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bia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pu menyajik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untungan d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faat dari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nggaran yang 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usul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1BA0-AFAB-4BAD-A773-88A5C7CD8E46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7375e"/>
                </a:solidFill>
                <a:latin typeface="Calibri"/>
              </a:rPr>
              <a:t>Apa kegunaan advokasi anggaran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embantu memastik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kasi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nggaran (sumberdaya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ng cukup dan proporsional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ntu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nangan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penyak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wan strategis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di wilay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rte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ggaran (sumberdaya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ang cukup dan proporsional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akan mengarah kepada pelayanan yang lebih baik bagi peternak dan perbaikan kesehatan hew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2DD0-6CBE-4224-84E3-5D690CC1CB50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Hubungan Advokasi Anggaran dengan iSIKHN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Jika peternak merasa menerima pelayanan keswan yang lebih baik dengan adanya pemerintah dan iSIKHNAS, maka mereka cenderung akan lebih rajin dalam melaporkan adanya penyak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ingkatan dalam pelaporan penyakit akan menghasilkan data surveilans yang lebih baik untuk digunakan dalam surveilans penyakit, ekonomi penyakit hewan dan advokasi angga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3EB3-B5BB-48B9-A314-965364618B65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31859c"/>
                </a:solidFill>
                <a:latin typeface="Calibri"/>
              </a:rPr>
              <a:t>Manfaat advokasi anggaran bagi petugas dan petern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413000"/>
            <a:ext cx="8218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vokasi anggaran yang baik akan memberikan keuntungan bagi tenaga paramedis keswan untu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ingkatkan pengetahuan melalui partisipasi pengendalian penyak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g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nya sumberdaya ba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iliki kesempatan lebih banyak dalam meningkatkan penghasilan melalui pengobatan ternak sa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Jika peternak menerima pelayanan 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w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yang baik, mereka akan sering menghubungi tenaga paramed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tuk m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layani hewan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316-6B7B-4FC5-9CD7-258CC88C3A6D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 ke 1.2</a:t>
            </a:r>
            <a:br>
              <a:rPr sz="4000"/>
            </a:b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 Pengembangan Rencana Advokasi Anggar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2850-0D8C-47B7-A2AB-31CB62F17D45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ujuan dari sesi i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da akhir dari sesi, anda akan bis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erangkan tentang advokasi angga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erangkan pentingnya advokasi anggaran dalam pengendalian penyakit hew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07EF-04F8-4885-A8D5-5AE8DB9E0CEF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Daftar 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5320" indent="-1165320">
              <a:spcBef>
                <a:spcPts val="799"/>
              </a:spcBef>
              <a:tabLst>
                <a:tab algn="l" pos="0"/>
                <a:tab algn="l" pos="116532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1.1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pa yang dimaksud dengan advokasi anggar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5320" indent="-1165320">
              <a:spcBef>
                <a:spcPts val="799"/>
              </a:spcBef>
              <a:tabLst>
                <a:tab algn="l" pos="0"/>
                <a:tab algn="l" pos="116532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1.2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gapa advokasi anggaran penting dalam pengendalian penyakit hewan?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A27F-0CB9-4335-87D6-1264A1A7DFB2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1.1.1  Apa yang dimaksud dengan advokasi anggar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FFEC-ED78-4B48-9C4B-599C9091608A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984807"/>
                </a:solidFill>
                <a:latin typeface="Calibri"/>
              </a:rPr>
              <a:t>Apa yang dimaksud dengan anggar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ggaran</a:t>
            </a:r>
            <a:r>
              <a:rPr b="1" lang="id-ID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lah rencana keuangan yang mencerminkan pilihan kebijakan suatu institus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lembaga untuk periode yang akan dat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ggaran digunakan untuk mengestimasi </a:t>
            </a:r>
            <a:r>
              <a:rPr b="0" lang="id-ID" sz="2800" spc="-1" strike="noStrike" u="sng">
                <a:solidFill>
                  <a:srgbClr val="000000"/>
                </a:solidFill>
                <a:uFillTx/>
                <a:latin typeface="Calibri"/>
              </a:rPr>
              <a:t>pendapat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dan </a:t>
            </a:r>
            <a:r>
              <a:rPr b="0" lang="id-ID" sz="2800" spc="-1" strike="noStrike" u="sng">
                <a:solidFill>
                  <a:srgbClr val="000000"/>
                </a:solidFill>
                <a:uFillTx/>
                <a:latin typeface="Calibri"/>
              </a:rPr>
              <a:t>pengeluar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dalam jangka waktu terten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Keputusan 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ggaran memerlukan perbandingan dari pilihan pengeluaran yang berbe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entu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ggar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ga berdasark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kuntabilita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r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uang ya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ah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iperguna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9A4-0E07-44CD-B728-FB66D3BECDA1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400" spc="-1" strike="noStrike">
                <a:solidFill>
                  <a:srgbClr val="984807"/>
                </a:solidFill>
                <a:latin typeface="Calibri"/>
              </a:rPr>
              <a:t>Al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lokasi anggaran (pengeluaran) biasanya ditujukan untuk mencapai sejumlah keuntun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lokasi anggaran pemerintah (pendapatan) biasanya dikaitkan dengan penerimaan negara dalam bentuk pajak ditambah dengan keuntungan-keuntungan non ekonomi yang diperoleh dari pengeluaran (seperti penambahan kualitas hidup, pemberdayaan masyarakat, sentimen politik d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F1D-63F0-4D68-99FD-0FEF75493F68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984807"/>
                </a:solidFill>
                <a:latin typeface="Calibri"/>
              </a:rPr>
              <a:t>Apa yang dimaksud dengan Advokas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Calibri"/>
              </a:rPr>
              <a:t>ADVOKASI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artinya bagaimana mempengaruhi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a pe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ngambil keputusan mengenai sesuatu, seperti kebijakan, peraturan perundangan atau regulasi, dan distribusi sumberdaya (anggara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Advokasi seringkali dikaitkan dengan kegiatan yang bertujuan mempengaruhi polit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Advokasi mencakup persiapan dan penyampaian pesan-pesan baik yang mengargumentasikan atau menentang suatu pilihan tertentu dalam upaya mempengaruhi keputus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8B2E-4B55-47D2-AC48-FF1654813133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984807"/>
                </a:solidFill>
                <a:latin typeface="Calibri"/>
              </a:rPr>
              <a:t>Definisi Advokasi Anggar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41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Advokasi anggar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rtinya ikut terlibat dalam proses penentu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kasi dan pengguna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umberday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t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agaimana alokasi ini dap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enuh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butuh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baga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lompo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Advokasi anggar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erangkan rencana keterlibatan dalam mempengaruhi bagaimana anggaran (sumberdaya) pemerintah dialokasikan dan dipergunakan untuk kebutuhan kelompok yang berbeda-be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FF6-862E-4B47-B059-7EF0B7EB4A3E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1.1.2  Mengapa advokasi anggaran penting dalam pengendalian penyakit hew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7365-F459-43F0-B616-2678B206DCD3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4:19:06Z</dcterms:created>
  <dc:creator>Evan Sergeant</dc:creator>
  <dc:description/>
  <dc:language>en-US</dc:language>
  <cp:lastModifiedBy>Valeska</cp:lastModifiedBy>
  <dcterms:modified xsi:type="dcterms:W3CDTF">2015-03-23T04:41:10Z</dcterms:modified>
  <cp:revision>98</cp:revision>
  <dc:subject/>
  <dc:title>Using iSIKHNAS for Budget Advocacy</dc:title>
</cp:coreProperties>
</file>