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C08A-875E-40C5-8515-68AEB939903D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G, buku pegangan “PAKET BIMBINGAN TEKNIS PERENCANAAN DAN PENGANGGARAN KESEHATAN HEWAN DI INDONESI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B3CE-03A3-4FAB-BEB7-D3EAF66CE33E}" type="slidenum">
              <a:rPr b="0" lang="id-ID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KKL = Kerangka Kerja Logis, buku pegangan “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PAKET BIMBINGAN TEKNIS PERENCANAAN DAN PENGANGGARAN KESEHATAN HEWAN DI INDONESI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D260-0AB0-472B-B592-B428D4037808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21EF-29E0-403C-B36E-99EF6912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2E77-DF4B-425F-B5A6-A4CEEC71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CE2F-21B5-4FEF-85B0-A660E088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64B6-C751-4254-9CAB-2515EADE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6DFA-28A1-460B-83AA-46A6202E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2652-C5E5-4591-BDBA-5025FAFB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4EBB-171E-4548-9484-2E69EA0B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83B8-AD05-4E94-B479-35043A31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87FD-86C9-4F67-8D39-08A354DD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5E85-DEC6-409C-A95E-102435F9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A668-ED6D-4836-9ECB-465370C2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E288-66E9-4200-9967-761DE228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4DD2-858B-48C2-8CA6-1E08171B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7C15-6A35-44C6-B591-4AC51812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9508-8B1B-48E0-A5DC-3D7AC0F5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F37C-D89F-4CAA-9E18-E3505FC6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8DEA-B98D-4D0A-95D3-9D21D8E5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6EEBB-1F5D-4FAD-95A7-8A2EFD60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0F5CD-3342-445C-8C4C-5A7F3FFF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9BF83-4137-4B21-81F5-F2368668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CD91F-99F4-4221-B450-2BDECAE3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4183D-174D-4C2D-91DF-B779408E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E366-49E8-4A1F-8C9E-4E317329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384A1-1549-4913-867C-4C2C653D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F4E02-C5B4-4155-A486-D40C6D40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1CDB9-53E0-4BB9-ABC7-9D3014DF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73107-2E5C-4515-955F-48A0D272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DC7BD-EECD-464B-961D-180CD2C4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3F807-1418-4FA6-B9CD-65E006F9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EB9AF-E830-4C49-997E-CD4B21B6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B28F-C6DC-45A3-89B1-EFBC7585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D8BA-E03E-4999-88BC-EDC14E5E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284-C2C8-4ACC-B8A5-C52C9AC8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B465-A6CD-45F4-9805-FF06B33A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3582-909C-458A-ACCB-975C5BDE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8475-2BC3-435F-8B14-6147126C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5B0E-6713-4EF9-B57A-7A5F5CA5C0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08680" y="4869000"/>
            <a:ext cx="2359080" cy="16398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508800"/>
            <a:ext cx="9144000" cy="3492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9bc1ff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AUSTRALIA INDONESIA PARTNERSHIP FOR EMERGING INFECTIOUS DISE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08680" y="4869000"/>
            <a:ext cx="2359080" cy="16398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0" y="6508800"/>
            <a:ext cx="9144000" cy="3492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9bc1ff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AUSTRALIA INDONESIA PARTNERSHIP FOR EMERGING INFECTIOUS DISE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3"/>
          <a:stretch/>
        </p:blipFill>
        <p:spPr>
          <a:xfrm>
            <a:off x="457200" y="279360"/>
            <a:ext cx="1401840" cy="63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Logo Kementan.jpg"/>
          <p:cNvPicPr/>
          <p:nvPr/>
        </p:nvPicPr>
        <p:blipFill>
          <a:blip r:embed="rId4"/>
          <a:stretch/>
        </p:blipFill>
        <p:spPr>
          <a:xfrm>
            <a:off x="7988400" y="274680"/>
            <a:ext cx="814320" cy="822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"/>
          <p:cNvPicPr/>
          <p:nvPr/>
        </p:nvPicPr>
        <p:blipFill>
          <a:blip r:embed="rId5"/>
          <a:stretch/>
        </p:blipFill>
        <p:spPr>
          <a:xfrm>
            <a:off x="3867120" y="189000"/>
            <a:ext cx="1409760" cy="728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C412-CBCE-4797-8C0E-F7E267DD9E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08680" y="4869000"/>
            <a:ext cx="2359080" cy="16398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0"/>
          <p:cNvSpPr/>
          <p:nvPr/>
        </p:nvSpPr>
        <p:spPr>
          <a:xfrm>
            <a:off x="0" y="6508800"/>
            <a:ext cx="9144000" cy="3492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9bc1ff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AUSTRALIA INDONESIA PARTNERSHIP FOR EMERGING INFECTIOUS DISE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Logo Kementan.jpg"/>
          <p:cNvPicPr/>
          <p:nvPr/>
        </p:nvPicPr>
        <p:blipFill>
          <a:blip r:embed="rId3"/>
          <a:stretch/>
        </p:blipFill>
        <p:spPr>
          <a:xfrm>
            <a:off x="7988400" y="274680"/>
            <a:ext cx="81432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AusAID kangaroo logo.jpg"/>
          <p:cNvPicPr/>
          <p:nvPr/>
        </p:nvPicPr>
        <p:blipFill>
          <a:blip r:embed="rId4"/>
          <a:stretch/>
        </p:blipFill>
        <p:spPr>
          <a:xfrm>
            <a:off x="457200" y="274680"/>
            <a:ext cx="1401840" cy="639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5"/>
          <a:stretch/>
        </p:blipFill>
        <p:spPr>
          <a:xfrm>
            <a:off x="3881520" y="189000"/>
            <a:ext cx="1411200" cy="728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6E99-A3D5-4759-90C0-53AEAF9E44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enggunaan iSIKHNAS untuk Advokasi Anggar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3.4 Menggunakan biaya dan manfaat penanggulangan penyakit untuk advokasi anggar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4000" spc="-1" strike="noStrike">
                <a:solidFill>
                  <a:srgbClr val="558ed5"/>
                </a:solidFill>
                <a:latin typeface="Calibri"/>
              </a:rPr>
              <a:t>Tujuan dari sesi in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Pada akhir dari sesi ini peserta dapat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Mengembangkan suatu contoh yang sederhana untuk advokasi anggaran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yanan 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kesehatan hew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215968"/>
                </a:solidFill>
                <a:latin typeface="Calibri"/>
              </a:rPr>
              <a:t>Ulas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Kerugian akibat penyaki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Kerugian langsu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Kerugian tidak langsu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Kerugian n</a:t>
            </a: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on-finan</a:t>
            </a: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Memperkirakan kerugian akibat penyakit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Dapatkan informasi mengenai sistim produksi yang terkena damp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Hitung unit kerugian akibat penyakit untuk setiap hewan atau peternakan yang terkena damp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Perkirakan jumlah peternakan (atau hewan) yang terkena dampak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Hitung total kerugian per tah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Lakukan analisa sensitivit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215968"/>
                </a:solidFill>
                <a:latin typeface="Calibri"/>
              </a:rPr>
              <a:t>Ulasan 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Biaya program kesehatan hew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Biaya tetap dan tak teta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Kegiatan surveila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Kegiatan pengendali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Biaya operasio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Manajemen pr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Biaya petern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Komunikas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Manfaat program kesehatan hew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Biaya penyakit tanpa program – biaya penyakit dengan pr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200" spc="-1" strike="noStrike">
                <a:solidFill>
                  <a:srgbClr val="604a7b"/>
                </a:solidFill>
                <a:latin typeface="Calibri"/>
              </a:rPr>
              <a:t>Menggunakan analisa ekonomi untuk advokasi anggar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Identif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ikasi masalah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Apa penyakit/masalah ya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lu di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erhat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Mengapa itu menjadi masalah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berapa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ent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 *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erkirakan kerugian penyak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Bagaimana anda mengatasinya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Identif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ikasi usulan respon untuk mengurangi dampa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Apakah layak untuk dilakukan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erkirakan biaya dan manfaat dari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Isu-isu lain yang perlu dipertimbangkan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Dampak n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on-finan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ial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, priorita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innya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, hambatan anggar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jukan usulan kegiatan untuk pendapatkan dana-dana tesebu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Berapa biayanya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iap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ang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membiayai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iap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nerima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manfaat? Apa risikonya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)</a:t>
            </a:r>
            <a:r>
              <a:rPr b="0" i="1" lang="en-US" sz="2000" spc="-1" strike="noStrike">
                <a:solidFill>
                  <a:srgbClr val="1f497d"/>
                </a:solidFill>
                <a:latin typeface="Calibri"/>
              </a:rPr>
              <a:t>Lihat metode USG (Urgent, Serious, Growth), Paket Bimtek Perencanaan dan Penganggaran di Indone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600" spc="-1" strike="noStrike">
                <a:solidFill>
                  <a:srgbClr val="953735"/>
                </a:solidFill>
                <a:latin typeface="Calibri"/>
              </a:rPr>
              <a:t>Diskusi dan pertanyaa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600" spc="-1" strike="noStrike">
                <a:solidFill>
                  <a:srgbClr val="953735"/>
                </a:solidFill>
                <a:latin typeface="Calibri"/>
              </a:rPr>
              <a:t>Latihan (45 menit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836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Lakukan perkelompok 4-5 ora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Berikan argumen terhadap usulan kegiatan kesehatan hewan di kab “X”. Ambil salah satu dari penyakit berikut)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86680">
              <a:spcBef>
                <a:spcPts val="55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Program pengendalian HPAI, helminthiasis, haemorrhagic septicaemia, brucellosis..lainnya?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erkiraan biaya penyakit saat ini (tanpa program)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entukan usulan program dan perkirakan biayany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erkirakan biaya penyakit setelah pelaksanaan progra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Bagaimana cara anda menyampaikan argumen tersebut usulan untuk anggaran pelaksanaan progra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Apakah ada program tandingan? Jika ya, bagaimana anda menanggulanginy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ntukan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risiko yang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pat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mempengaruhi keberhasilan pelaksanaan progra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Tiap 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kelompok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menyampaikan laporannya 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dan berdiskus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97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200" spc="-1" strike="noStrike">
                <a:solidFill>
                  <a:srgbClr val="4a452a"/>
                </a:solidFill>
                <a:latin typeface="Calibri"/>
              </a:rPr>
              <a:t>Diskusi dan pertanyaan</a:t>
            </a:r>
            <a:r>
              <a:rPr b="1" lang="en-US" sz="3200" spc="-1" strike="noStrike">
                <a:solidFill>
                  <a:srgbClr val="4a452a"/>
                </a:solidFill>
                <a:latin typeface="Calibri"/>
              </a:rPr>
              <a:t> untuk setiap kelomp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8360" y="691920"/>
            <a:ext cx="8424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Mengapa penyakit yang anda identifikasi itu </a:t>
            </a:r>
            <a:r>
              <a:rPr b="0" lang="id-ID" sz="2900" spc="-1" strike="noStrike">
                <a:solidFill>
                  <a:srgbClr val="000000"/>
                </a:solidFill>
                <a:latin typeface="Calibri"/>
              </a:rPr>
              <a:t>merupakan masalah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900" spc="-1" strike="noStrike">
                <a:solidFill>
                  <a:srgbClr val="000000"/>
                </a:solidFill>
                <a:latin typeface="Calibri"/>
              </a:rPr>
              <a:t>Perkirakan kerugian yang dialami akibat penyakit</a:t>
            </a:r>
            <a:r>
              <a:rPr b="0" lang="en-AU" sz="29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900" spc="-1" strike="noStrike">
                <a:solidFill>
                  <a:srgbClr val="000000"/>
                </a:solidFill>
                <a:latin typeface="Calibri"/>
              </a:rPr>
              <a:t>Perkirakan kerugian biaya dan manfaat dari pengendalian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900" spc="-1" strike="noStrike">
                <a:solidFill>
                  <a:srgbClr val="000000"/>
                </a:solidFill>
                <a:latin typeface="Calibri"/>
              </a:rPr>
              <a:t>Apakah penyakit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ersebut </a:t>
            </a:r>
            <a:r>
              <a:rPr b="0" lang="id-ID" sz="2900" spc="-1" strike="noStrike">
                <a:solidFill>
                  <a:srgbClr val="000000"/>
                </a:solidFill>
                <a:latin typeface="Calibri"/>
              </a:rPr>
              <a:t>layak untuk dikendalikan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900" spc="-1" strike="noStrike">
                <a:solidFill>
                  <a:srgbClr val="000000"/>
                </a:solidFill>
                <a:latin typeface="Calibri"/>
              </a:rPr>
              <a:t>Apakah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nda mempresentasikan argumen yang baik untuk usulan a</a:t>
            </a:r>
            <a:r>
              <a:rPr b="0" lang="id-ID" sz="2900" spc="-1" strike="noStrike">
                <a:solidFill>
                  <a:srgbClr val="000000"/>
                </a:solidFill>
                <a:latin typeface="Calibri"/>
              </a:rPr>
              <a:t>anda?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Dimana lebih kurangnya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900" spc="-1" strike="noStrike">
                <a:solidFill>
                  <a:srgbClr val="000000"/>
                </a:solidFill>
                <a:latin typeface="Calibri"/>
              </a:rPr>
              <a:t>Apakah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da isu </a:t>
            </a:r>
            <a:r>
              <a:rPr b="0" lang="id-ID" sz="2900" spc="-1" strike="noStrike">
                <a:solidFill>
                  <a:srgbClr val="000000"/>
                </a:solidFill>
                <a:latin typeface="Calibri"/>
              </a:rPr>
              <a:t>lain dan prioritas lainnya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id-ID" sz="2900" spc="-1" strike="noStrike">
                <a:solidFill>
                  <a:srgbClr val="000000"/>
                </a:solidFill>
                <a:latin typeface="Calibri"/>
              </a:rPr>
              <a:t>pakah anda dapat mengidentifikasi risiko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yang dapat </a:t>
            </a:r>
            <a:r>
              <a:rPr b="0" lang="id-ID" sz="2900" spc="-1" strike="noStrike">
                <a:solidFill>
                  <a:srgbClr val="000000"/>
                </a:solidFill>
                <a:latin typeface="Calibri"/>
              </a:rPr>
              <a:t>mempengaruhi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pencapaian tujuan program</a:t>
            </a:r>
            <a:r>
              <a:rPr b="0" lang="id-ID" sz="29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i="1" lang="en-US" sz="2800" spc="-1" strike="noStrike">
                <a:solidFill>
                  <a:srgbClr val="0070c0"/>
                </a:solidFill>
                <a:latin typeface="Calibri"/>
              </a:rPr>
              <a:t> *(lihat tentang KKL pada Perencanaan dan Penganggaran</a:t>
            </a:r>
            <a:r>
              <a:rPr b="0" i="1" lang="id-ID" sz="28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e46c0a"/>
                </a:solidFill>
                <a:latin typeface="Calibri"/>
              </a:rPr>
              <a:t>Rangkuman se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mponen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Advokasi anggara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yanan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kesehatan hewan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Kerugian akibat penyak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Penjabaran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Biaya dan manfaat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dentifi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kasi dan respon terhadap isu-isu la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Ketersediaan anggar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Faktor-faktor sosial/polit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Dampak n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on-finan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s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Prioritas-prioritas tanding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Risiko kegaga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01:29:15Z</dcterms:created>
  <dc:creator>Evan Sergeant</dc:creator>
  <dc:description/>
  <dc:language>en-US</dc:language>
  <cp:lastModifiedBy>Valeska</cp:lastModifiedBy>
  <dcterms:modified xsi:type="dcterms:W3CDTF">2015-03-23T07:39:34Z</dcterms:modified>
  <cp:revision>29</cp:revision>
  <dc:subject/>
  <dc:title>Using iSIKHNAS for Budget Advocacy</dc:title>
</cp:coreProperties>
</file>