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783-B1E0-4C23-9DD5-B8793DBB5083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264-6867-41B4-95CF-B351665716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B94-EE15-4984-BD01-24E262A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29A-0774-49A1-BAB9-A77F599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694-97A6-4BD7-9EC9-393C4BC9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A8E-E51C-488C-92E8-15719157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8416-C2D2-43B9-91F6-FE40D6F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6391-08A1-43EE-B33E-3309A523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178-8C5B-42E8-8B73-887416ED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0D3-FEDA-4431-B385-B4C3691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56B-8B64-4814-8C37-8B1AFD74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8077-39D7-461F-8C15-FBACABA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918-67C2-4962-B025-309316B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F2C-D7BD-402D-8DA1-B8EB480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6A1-DB26-4259-9DFE-A9A48B8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A225-B6B1-4236-9270-F6BE3E3E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72C-1C35-4C34-9092-472C5A0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3BE-10EA-4A4A-BA3B-3E14F0FE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087-E6C0-4BE2-821E-79F4950F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565B-ECE1-470F-8F41-8DDEB829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9FF2-C128-4957-B13C-FF6E0BAE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B588-3F9A-40B3-8BFE-5027867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BC60-0C3F-4351-8B83-39BA5F5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1633-DBC6-46D9-BE79-80AB595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191-A0E4-4749-85D0-3CC6C22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7AB5-28DB-436F-9DE6-1991713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3D8B-5717-4FD7-8568-C300C42B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BEB7-E9A2-4210-8107-0116905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6285-202B-4AFC-9D86-3AB0FE1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0836-A3E6-464C-9E7F-F6D9BE60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C056-431E-4818-897F-EE8EE30D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9D26-6CD3-4E8F-A004-4CD49E3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E70-75FF-4963-961C-61D4FE4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D2B-ECBB-4EA3-A5C6-FF3267F3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E97-DD47-4FEA-943E-D68F61E7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788-B84B-42E9-A57B-9CD924E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636-82A5-4FFC-9838-71040DA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F75-ACBB-473C-B731-9A43F89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7D70-290E-4BF8-9B38-A6F43D2A6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7200" y="279360"/>
            <a:ext cx="140184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Logo Kementan.jpg"/>
          <p:cNvPicPr/>
          <p:nvPr/>
        </p:nvPicPr>
        <p:blipFill>
          <a:blip r:embed="rId4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5"/>
          <a:stretch/>
        </p:blipFill>
        <p:spPr>
          <a:xfrm>
            <a:off x="3867120" y="189000"/>
            <a:ext cx="1409760" cy="72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4033-AF9D-4C36-AA11-D384EDC10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8680" y="4869000"/>
            <a:ext cx="2359080" cy="1639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6508800"/>
            <a:ext cx="9144000" cy="3492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9bc1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AUSTRALIA INDONESIA PARTNERSHIP FOR EMERGING 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Logo Kementan.jpg"/>
          <p:cNvPicPr/>
          <p:nvPr/>
        </p:nvPicPr>
        <p:blipFill>
          <a:blip r:embed="rId3"/>
          <a:stretch/>
        </p:blipFill>
        <p:spPr>
          <a:xfrm>
            <a:off x="7988400" y="274680"/>
            <a:ext cx="81432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usAID kangaroo logo.jpg"/>
          <p:cNvPicPr/>
          <p:nvPr/>
        </p:nvPicPr>
        <p:blipFill>
          <a:blip r:embed="rId4"/>
          <a:stretch/>
        </p:blipFill>
        <p:spPr>
          <a:xfrm>
            <a:off x="457200" y="274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3881520" y="189000"/>
            <a:ext cx="1411200" cy="72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E404-4898-4501-BAB4-0A02FC5DD3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nggunaan iSIKHNAS untuk Advoka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alisis biay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nf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Tingkat pengembalian internal (</a:t>
            </a:r>
            <a:r>
              <a:rPr b="0" i="1" lang="id-ID" sz="3600" spc="-1" strike="noStrike">
                <a:solidFill>
                  <a:srgbClr val="000000"/>
                </a:solidFill>
                <a:latin typeface="Calibri"/>
              </a:rPr>
              <a:t>Internal Rate of Return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ngkat diskonto yang diperlukan agar Nilai Bersih Saat Ini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(NPV)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0 (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tau Rasio Manfaat-Biaya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nilah tingkat bunga yang perlu didapatkan untuk berinvestasi di tempat 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  <a:ea typeface="Arial"/>
              </a:rPr>
              <a:t>Diskusi dan pertany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Contoh NP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Buka spreadsheet </a:t>
            </a:r>
            <a:r>
              <a:rPr b="0" i="1" lang="id-ID" sz="2500" spc="-1" strike="noStrike" u="sng">
                <a:solidFill>
                  <a:srgbClr val="ff0000"/>
                </a:solidFill>
                <a:uFillTx/>
                <a:latin typeface="Calibri"/>
              </a:rPr>
              <a:t>3.5-Kalkulasi Nilai Bersih saat ini (NPV).xlsx </a:t>
            </a:r>
            <a:r>
              <a:rPr b="0" lang="id-ID" sz="2500" spc="-1" strike="noStrike" u="sng">
                <a:solidFill>
                  <a:srgbClr val="ff0000"/>
                </a:solidFill>
                <a:uFillTx/>
                <a:latin typeface="Calibri"/>
              </a:rPr>
              <a:t>; Worksheet Kalkulasi NP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kukan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perhitungan untuk melihat bagaimana fungsi NPV menghitung nilai diskonto dari manfaat di masa dep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Setiap manfaat per tahun didiskonto kembali ke nilai saat ini mengikuti tingkat disko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umlah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nilai terdiskonto  untuk seluruh jumlah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alah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 nilai fungsi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rsih saat ini (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Semaki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ma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tahu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tuk mendapatkan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manfaat, semakin berkurang nil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NPV untuk 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saat in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kukan h</a:t>
            </a:r>
            <a:r>
              <a:rPr b="0" lang="id-ID" sz="2500" spc="-1" strike="noStrike">
                <a:solidFill>
                  <a:srgbClr val="000000"/>
                </a:solidFill>
                <a:latin typeface="Calibri"/>
              </a:rPr>
              <a:t>al yang sama untuk biay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Hitung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lah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Nilai (saat ini) terdiskon untuk semua biay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Nilai (saat ini) terdiskon untuk semua manfa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Hit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ilai bersih saat 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manfaat-bi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ngkat pengembalian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Conto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uka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pread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id-ID" sz="2800" spc="-1" strike="noStrike">
                <a:solidFill>
                  <a:srgbClr val="ff0000"/>
                </a:solidFill>
                <a:latin typeface="Calibri"/>
              </a:rPr>
              <a:t>3.5-Contoh c</a:t>
            </a:r>
            <a:r>
              <a:rPr b="0" i="1" lang="en-AU" sz="2800" spc="-1" strike="noStrike">
                <a:solidFill>
                  <a:srgbClr val="ff0000"/>
                </a:solidFill>
                <a:latin typeface="Calibri"/>
              </a:rPr>
              <a:t>ost-benefit analysis.xls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ni tentan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awanan sapi betina komersial denga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rucel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hilanga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4%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akan sapi setiap tahun (kegugur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iusulkan program vaksinasi untuk mengendalikan penya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pakah program ini akan ekonomis (menguntungkan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Calibri"/>
              </a:rPr>
              <a:t>Pr</a:t>
            </a:r>
            <a:r>
              <a:rPr b="1" lang="id-ID" sz="3600" spc="-1" strike="noStrike">
                <a:solidFill>
                  <a:srgbClr val="558ed5"/>
                </a:solidFill>
                <a:latin typeface="Calibri"/>
              </a:rPr>
              <a:t>ogram yang diusulk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ksinasi semua sapi betina pada tahun pertama, kemudian hanya m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ksiansi sapi da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ga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iaya awal un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tai dingin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ksinasi seluruh kawa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elatihan 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iaya berjalan un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ksinasi tahunan untuk sapi dara pengga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kan tambahan untuk anak sapi yang lah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iaya lain-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4a452a"/>
                </a:solidFill>
                <a:latin typeface="Calibri"/>
              </a:rPr>
              <a:t>Manfa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Lebih banyak anakan sapi yang lahir dan dapat dij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nfaat lainny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n 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faat yang tertunda karen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akan sapi tambahan baru lahir pada tahun ked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akan sapi baru dijual pada tahun ketiga dan tahun-tahun sesudah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faat lain baru diperoleh pada tahun ket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7375e"/>
                </a:solidFill>
                <a:latin typeface="Calibri"/>
              </a:rPr>
              <a:t>Conto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Kerjakan </a:t>
            </a: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spreadsheet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bersama-sama atau sendiri-sendi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Gunakan nilai yang disarankan pada teks abu-a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obalah nilai lainnya dan lihat pengaruh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anakan sapi berharga Rp2.000.000 bukannya Rp4.000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lipat gandakan biaya vaksin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ubahan nilai lainny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96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17375e"/>
                </a:solidFill>
                <a:latin typeface="Calibri"/>
              </a:rPr>
              <a:t>Contoh di Excel sheet: </a:t>
            </a:r>
            <a:br>
              <a:rPr sz="3200"/>
            </a:br>
            <a:r>
              <a:rPr b="1" lang="id-ID" sz="2800" spc="-1" strike="noStrike">
                <a:solidFill>
                  <a:srgbClr val="17375e"/>
                </a:solidFill>
                <a:latin typeface="Calibri"/>
              </a:rPr>
              <a:t>NILAI SEKARANG + NILAI TAHUN BERIKUT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3640" y="1052280"/>
            <a:ext cx="83199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ilai sekarang (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present valu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) = nilai tahun pert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ngka penyusutan = 10 – 15% 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alnya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igunakan 1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ilai nantinya (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future value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) = nilai tahun ke-2, ke-3,....... dst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isal: Nilai tahun pertama: 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ilai tahun ke-2 = Fungsi NPV(angka penyusutan; nilai tahun pertama) = NPV($B$9; D2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Nilai tahun ke-3 =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gsi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NPV(angka penyusutan; nilai tahun ke-dua) = NPV($B$9;E2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A3E2-F87F-4298-8C05-E113B81318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953735"/>
                </a:solidFill>
                <a:latin typeface="Calibri"/>
              </a:rPr>
              <a:t>Contoh di Excel sheet: </a:t>
            </a:r>
            <a:br>
              <a:rPr sz="3200"/>
            </a:br>
            <a:r>
              <a:rPr b="1" lang="id-ID" sz="3200" spc="-1" strike="noStrike">
                <a:solidFill>
                  <a:srgbClr val="953735"/>
                </a:solidFill>
                <a:latin typeface="Calibri"/>
              </a:rPr>
              <a:t>NILAI SEKARANG + NILAI TAHUN BERIKU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agaimana menghitung total nilai seluruhnya (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multi-years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) setelah memperhitungkan angka penyusut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otal nilai penyusutan = nilai sekarang (atau total tahun pertama) + 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gsi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NPV (angka penyusutan; total tahun kedua sampai tahun terakhi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= D24+NPV($B$9;E24:M2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1f497d"/>
                </a:solidFill>
                <a:latin typeface="Calibri"/>
              </a:rPr>
              <a:t>Tujuan dari sesi i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da akhir ses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serta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p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jelask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erti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34416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res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alu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Kalkulasi Nilai bersih saat i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34416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enefit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o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ati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C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asio biaya-manfaat)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34416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ntern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at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etur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R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ingkat pengembalian Inter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ginterpretasikan hasil dari suatu analisa biaya-manf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erapk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uatu analisa biaya-manfaat yang sederh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34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34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680" y="380880"/>
            <a:ext cx="74959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Contoh di Excel sheet:</a:t>
            </a:r>
            <a:br>
              <a:rPr sz="3200"/>
            </a:b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NET PRESENT VALUE (N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PV dihitung dengan cara mengurangi total nilai sekarang dari biaya (PVC) dengan total nilai sekarang dari manfaat proyek (PV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PV = B32 – B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3EB-A151-43E9-B1A5-307AB572FD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Contoh di Excel sheet:</a:t>
            </a:r>
            <a:br>
              <a:rPr sz="3200"/>
            </a:b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BENEFIT COST RATIO (B/C R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Biaya-manfaat (B/C ratio) dihitung dengan membagi nilai sekarang dari manfaat dengan nilai sekarang dari bia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/C ratio &gt;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/C ratio = B32/B2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083-6F64-4FBC-B72B-CEA4008E4E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380880"/>
            <a:ext cx="74959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Contoh di Excel sheet:</a:t>
            </a:r>
            <a:br>
              <a:rPr sz="3200"/>
            </a:br>
            <a:r>
              <a:rPr b="1" lang="id-ID" sz="3200" spc="-1" strike="noStrike">
                <a:solidFill>
                  <a:srgbClr val="558ed5"/>
                </a:solidFill>
                <a:latin typeface="Calibri"/>
              </a:rPr>
              <a:t>INTERNAL RATE OF RETURN (IR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ara menghitung IR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Fungsi IRR dari (penjumlahan manfaat – penjumlahan biay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RR(D34:M3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768-DF5B-4430-8029-18F3F3150B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632523"/>
                </a:solidFill>
                <a:latin typeface="Calibri"/>
              </a:rPr>
              <a:t>Sampaikan laporan dan diskusik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yek menguntungkan secara ekono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Hasil dapat dilihat di bawah ini untuk analisis asli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Object 9"/>
          <p:cNvGraphicFramePr/>
          <p:nvPr/>
        </p:nvGraphicFramePr>
        <p:xfrm>
          <a:off x="468360" y="4724280"/>
          <a:ext cx="8370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24280"/>
                    <a:ext cx="8370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376092"/>
                </a:solidFill>
                <a:latin typeface="Calibri"/>
              </a:rPr>
              <a:t>Pengaruh wa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iaya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manfaat selama 2 tahun perta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Manfaat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iaya mulai tahun ketiga dan selanjutny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erlu menghabiskan uang di awal untuk memperoleh manfaat secara keseluruh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10"/>
          <p:cNvGraphicFramePr/>
          <p:nvPr/>
        </p:nvGraphicFramePr>
        <p:xfrm>
          <a:off x="395280" y="3141720"/>
          <a:ext cx="861840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1720"/>
                    <a:ext cx="86184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4000" spc="-1" strike="noStrike">
                <a:solidFill>
                  <a:srgbClr val="4f6228"/>
                </a:solidFill>
                <a:latin typeface="Calibri"/>
              </a:rPr>
              <a:t>Pengaruh perubah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gurangi harga jual anakan sap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aka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rogram tidak menguntungk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ningkatkan biaya vaksinasi mengurangi nilai bersih saat ini, tetapi masih menguntungk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4a452a"/>
                </a:solidFill>
                <a:latin typeface="Calibri"/>
              </a:rPr>
              <a:t>Dis</a:t>
            </a:r>
            <a:r>
              <a:rPr b="1" lang="id-ID" sz="4400" spc="-1" strike="noStrike">
                <a:solidFill>
                  <a:srgbClr val="4a452a"/>
                </a:solidFill>
                <a:latin typeface="Calibri"/>
              </a:rPr>
              <a:t>kusi dan pertanyaan</a:t>
            </a:r>
            <a:r>
              <a:rPr b="1" lang="en-AU" sz="4400" spc="-1" strike="noStrike">
                <a:solidFill>
                  <a:srgbClr val="4a452a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604a7b"/>
                </a:solidFill>
                <a:latin typeface="Calibri"/>
              </a:rPr>
              <a:t>Peran analisa ekonom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Nilai ekonomi (manfaat) hanyalah salah satu faktor dalam pengambilan keputus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ntuk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suatu usulan progr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Keputusan program dapat didasarkan pada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alas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non-ekonomis, mis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alnya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lasan kesehatan masyarak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rena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gram bisa tak diteruskan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walaupun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NPV atau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BCR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 tinggi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Misalnya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karena situasi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olitik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uasi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finansial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sit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anggar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aerah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tau hal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l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Para pengambil kebijakan akan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mempertimbangkan semua faktor dalam membuat keputusa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953735"/>
                </a:solidFill>
                <a:latin typeface="Calibri"/>
              </a:rPr>
              <a:t>Apakah yang dimaksud dengan analisis biaya-manfaat</a:t>
            </a:r>
            <a:r>
              <a:rPr b="1" lang="en-AU" sz="3600" spc="-1" strike="noStrike">
                <a:solidFill>
                  <a:srgbClr val="953735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mbandingkan antara biaya dan manfaa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atu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lam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beberapa tahu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emperhatikan kenyataan bahwa uang yang dikeluarkan atau diterima di masa depan bernilai lebih kecil daripada uang yang dikeluarkan/ diterima saat ini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engap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ilai saat ini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(present value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lah s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emua biaya dan manfa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ang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didiskon ke nilai tahun ini untuk perbandingan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Tingkat diskonto serupa dengan bunga yang akan diperoleh jika uang tersebut diinvestasik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iasanya untuk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Program yang lebih besar dan rum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yang berjalan selam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eberapa tahun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sampai dengan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tahun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 yang biayanya lebih besar pada saat awal dan manfaatnya lebih besar pada saat akh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885-BDAA-466C-8BFD-7A9A71CE5617}" type="slidenum">
              <a:rPr b="0" lang="en-A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000" spc="-1" strike="noStrike">
                <a:solidFill>
                  <a:srgbClr val="c0504d"/>
                </a:solidFill>
                <a:latin typeface="Calibri"/>
              </a:rPr>
              <a:t>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Biaya 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Biaya teta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p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erlengkapan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gaji s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taf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ke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ndaraan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ewa kantor, listri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l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Biay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k tetap (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surveilans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ngendalian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ang harian, perjalana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uang makan dl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rlu dihitung untuk setiap tahun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Manfa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hematan karena penurunan tingkat penyak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ortalitas lebih renda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orbiditas lebih renda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erkurangnya biaya pengoba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rugian akibat penyakit tanpa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kurangi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kerugian dengan adanya pro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lu dihitung untuk setiap tahu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684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Nilai Bersih Saat Ini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(NPV)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 adalah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7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Nilai keseluruhan dari program saat ini = (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Nilai saat ini dari manfaa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– (N</a:t>
            </a: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ilai saat ini dari biaya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nfaat dan biaya didiskon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engan “tingkat diskonto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id-ID" sz="3200" spc="-1" strike="noStrike">
                <a:solidFill>
                  <a:srgbClr val="000000"/>
                </a:solidFill>
                <a:latin typeface="Calibri"/>
              </a:rPr>
              <a:t>iscount rate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ghasilkan nilai saat ini dalam rupi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ika NPV &gt; 0 program memilik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anfa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ika NPV &lt; 0 program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dak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konomis karena biayanya lebih tinggi dari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anfa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100" spc="-1" strike="noStrike">
                <a:solidFill>
                  <a:srgbClr val="000000"/>
                </a:solidFill>
                <a:latin typeface="Calibri"/>
              </a:rPr>
              <a:t>Semakin besar selisihnya, semakin besar nilai program ini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c00000"/>
                </a:solidFill>
                <a:latin typeface="Calibri"/>
              </a:rPr>
              <a:t>Keluaran (Outpu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Rasio manfaat-biaya (</a:t>
            </a:r>
            <a:r>
              <a:rPr b="0" i="1" lang="id-ID" sz="3600" spc="-1" strike="noStrike">
                <a:solidFill>
                  <a:srgbClr val="000000"/>
                </a:solidFill>
                <a:latin typeface="Calibri"/>
              </a:rPr>
              <a:t>benefit cost ratio</a:t>
            </a: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ilai saat ini dari manfaat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ilai saat ini dari bi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ika &gt; 1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erarti program layak dijalankan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nfaat lebih besar daripada biay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ika &lt; 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berarti program tidak bermanfaat secara ekonomi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iay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bih besar dari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nfaa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5:26:12Z</dcterms:created>
  <dc:creator>Evan Sergeant</dc:creator>
  <dc:description/>
  <dc:language>en-US</dc:language>
  <cp:lastModifiedBy>Valeska</cp:lastModifiedBy>
  <dcterms:modified xsi:type="dcterms:W3CDTF">2015-03-23T09:08:41Z</dcterms:modified>
  <cp:revision>73</cp:revision>
  <dc:subject/>
  <dc:title>Using iSIKHNAS for Budget Advocacy</dc:title>
</cp:coreProperties>
</file>