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10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11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12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E366-FD2A-4CA4-AFCA-D6C101E25BF2}" type="slidenum">
              <a:rPr b="0" lang="id-ID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Catatan untuk 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Fa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ilitator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Waktu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Presenta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si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: 20 m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e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is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kusi dan pertanyaan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: 5-10 m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e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Latihan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: 30 m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is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kusi untuk latihan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: 5 m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enit 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per 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kelomp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Pertanyaan/diskusi f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inal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5-10 m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e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3366-4774-46BF-878B-48D7E8F0D849}" type="slidenum">
              <a:rPr b="0" lang="id-ID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21D5-8879-4AC3-8E75-28915945BF6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ED89-18AC-41D9-9690-322F10CDF2C9}" type="slidenum">
              <a:rPr b="0" lang="id-ID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Waktu yang diusulkan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Presenta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si dan diskusi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: 15-20 m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e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Latihan kelompok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: 30 m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e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Laporan kembali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: 5-10 m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enit per kelomp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Pertanyaan dan diskusi f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inal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10 m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e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0772-8062-40B8-912D-03FF72F10BF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CD72-29F0-45DD-BA61-36A22CA218AA}" type="slidenum">
              <a:rPr b="0" lang="id-ID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Economics provide objective information about disease impact and costs/benefits of proposed control meas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Other non-financial impacts (such as human health) are also impor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ecision makers must make their decision on the basis of available information, political and social considerations and available bud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ecisions therefore depend on a variety of factors, of which economic analysis is one important contribu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9F23-CC20-46BA-8D8A-F30571B2044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28AC-B6C9-4953-A58E-CA38337FE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D56C-E5C4-4B12-9A37-8115F3F7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810A-8ADE-44FD-B2D3-45CBC70F8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B059-CE20-4174-A9F8-D6CB2EEDB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43B4-D302-424C-A03A-9047BF38B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868FC-4184-42AA-BE09-93930B49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DD3E-5601-430C-8056-C943BF85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48EF-6E16-4444-9380-660F9A4B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F4472-37BB-49D2-8CB1-307289F6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FEA0-E01B-450B-89B5-64132F72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9489-3B25-43B9-8A14-8822D029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3FC0-AE81-4380-AD8E-79D1E86F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E19A-4787-48C5-A758-23DCA4B7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F214-A9DE-4CE0-B7A3-FDE1F8A6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088C-FF84-435F-9E0F-A2D37F9C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21D6-EAA0-4A6C-AB4E-EFB4CB8C9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F8ED-6A0B-4FA8-A68E-E525583FD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CD35B-5F50-4A7B-8560-F271DFB30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08B9F-D8A0-42D1-8FEA-D2C1BEB8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7D92F-B68C-4FEB-8901-FF795F40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28593-A958-4AB9-8788-EB0FC6D4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07381-3630-489F-8537-ED938CBF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FB2D-A442-4EBE-8219-9292EC34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9466E-EFDD-4B77-998E-4C41922E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0A3E7-4E94-4B91-A2A6-DA01FD52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A7BF7-0676-4589-BFFB-CBD26114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0092D-0618-4CE4-9D57-4DB7A2B8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DC7F3-C667-45CA-AF63-50278106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22A43-9888-44E1-B42D-50BCAEC93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41FAC-7A6B-4F01-B511-A8BA8114E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F2C1-A396-4339-A819-7C0621C4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D7DA-2118-4847-ADFF-BCAF3C74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D854-DD86-4B9F-9908-11FB0D80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2DAE-3993-47FB-A625-D1628A47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CD4E-8029-4802-9D6E-56A08423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F89E-6281-4B33-8182-9CAC290C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6FFF-1ECE-45E1-89D1-310644B276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808680" y="4869000"/>
            <a:ext cx="2359080" cy="16398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6508800"/>
            <a:ext cx="9144000" cy="3492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9bc1ff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Times New Roman"/>
              </a:rPr>
              <a:t>AUSTRALIA INDONESIA PARTNERSHIP FOR EMERGING INFECTIOUS DISE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808680" y="4869000"/>
            <a:ext cx="2359080" cy="16398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0"/>
          <p:cNvSpPr/>
          <p:nvPr/>
        </p:nvSpPr>
        <p:spPr>
          <a:xfrm>
            <a:off x="0" y="6508800"/>
            <a:ext cx="9144000" cy="3492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9bc1ff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Times New Roman"/>
              </a:rPr>
              <a:t>AUSTRALIA INDONESIA PARTNERSHIP FOR EMERGING INFECTIOUS DISE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3"/>
          <a:stretch/>
        </p:blipFill>
        <p:spPr>
          <a:xfrm>
            <a:off x="457200" y="279360"/>
            <a:ext cx="1401840" cy="630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Logo Kementan.jpg"/>
          <p:cNvPicPr/>
          <p:nvPr/>
        </p:nvPicPr>
        <p:blipFill>
          <a:blip r:embed="rId4"/>
          <a:stretch/>
        </p:blipFill>
        <p:spPr>
          <a:xfrm>
            <a:off x="7988400" y="274680"/>
            <a:ext cx="814320" cy="822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"/>
          <p:cNvPicPr/>
          <p:nvPr/>
        </p:nvPicPr>
        <p:blipFill>
          <a:blip r:embed="rId5"/>
          <a:stretch/>
        </p:blipFill>
        <p:spPr>
          <a:xfrm>
            <a:off x="3867120" y="189000"/>
            <a:ext cx="1409760" cy="728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FBDC-2CE2-47AD-B496-194E19CF66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8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808680" y="4869000"/>
            <a:ext cx="2359080" cy="16398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0"/>
          <p:cNvSpPr/>
          <p:nvPr/>
        </p:nvSpPr>
        <p:spPr>
          <a:xfrm>
            <a:off x="0" y="6508800"/>
            <a:ext cx="9144000" cy="3492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9bc1ff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Times New Roman"/>
              </a:rPr>
              <a:t>AUSTRALIA INDONESIA PARTNERSHIP FOR EMERGING INFECTIOUS DISE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" descr="Logo Kementan.jpg"/>
          <p:cNvPicPr/>
          <p:nvPr/>
        </p:nvPicPr>
        <p:blipFill>
          <a:blip r:embed="rId3"/>
          <a:stretch/>
        </p:blipFill>
        <p:spPr>
          <a:xfrm>
            <a:off x="7988400" y="274680"/>
            <a:ext cx="81432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AusAID kangaroo logo.jpg"/>
          <p:cNvPicPr/>
          <p:nvPr/>
        </p:nvPicPr>
        <p:blipFill>
          <a:blip r:embed="rId4"/>
          <a:stretch/>
        </p:blipFill>
        <p:spPr>
          <a:xfrm>
            <a:off x="457200" y="274680"/>
            <a:ext cx="1401840" cy="639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5"/>
          <a:stretch/>
        </p:blipFill>
        <p:spPr>
          <a:xfrm>
            <a:off x="3881520" y="189000"/>
            <a:ext cx="1411200" cy="7286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52DD-171E-471A-AC26-9EC252451F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Calibri"/>
              </a:rPr>
              <a:t>Penggunaan iSIKHNAS untuk Advokasi Anggar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1 Dampak ekonomi akibat penyak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3600" spc="-1" strike="noStrike">
                <a:solidFill>
                  <a:srgbClr val="558ed5"/>
                </a:solidFill>
                <a:latin typeface="Calibri"/>
              </a:rPr>
              <a:t>Dis</a:t>
            </a:r>
            <a:r>
              <a:rPr b="1" lang="id-ID" sz="3600" spc="-1" strike="noStrike">
                <a:solidFill>
                  <a:srgbClr val="558ed5"/>
                </a:solidFill>
                <a:latin typeface="Calibri"/>
              </a:rPr>
              <a:t>kus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Setiap kelompok melaporkan dan berdiskus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ktunya maksimal 10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e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Untuk dampak yang diusulk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pakah dampak tersebut akibat penyaki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pakah dampak tersebut langsung atau tidak langsu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Dapatk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 dampak tersebut dihitung dalam bentuk nilai uan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Rupiah)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Siapa yang menanggung biayany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600" spc="-1" strike="noStrike">
                <a:solidFill>
                  <a:srgbClr val="000000"/>
                </a:solidFill>
                <a:latin typeface="Calibri"/>
              </a:rPr>
              <a:t>Beberapa contoh dampa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90756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Dampak langsung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matian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guguran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nurunan kesuburan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 (lebih sedikit anakan yang lahi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nurunan berat badan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 (penurunan nilai ju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nurunan produk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s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telur, sus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nurunan mutu produk (ukuran atau mutu telur, penurunan mutu daging, mutu kuli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Perubahan struktur kelompok/populas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Penurunan konversi pak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6840" y="475920"/>
            <a:ext cx="84358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500" spc="-1" strike="noStrike">
                <a:solidFill>
                  <a:srgbClr val="000000"/>
                </a:solidFill>
                <a:latin typeface="Calibri"/>
              </a:rPr>
              <a:t>Dampak tidak langsung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iaya pengobatan atau pencegaha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500" spc="-1" strike="noStrike">
                <a:solidFill>
                  <a:srgbClr val="000000"/>
                </a:solidFill>
                <a:latin typeface="Calibri"/>
              </a:rPr>
              <a:t>Dampak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zoonosis (infeksi pada manusia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erkurangnya nilai karena perdagangan dan pariwisata terganggu (kesehatan manusia terganggu karena penyakit hewan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500" spc="-1" strike="noStrike">
                <a:solidFill>
                  <a:srgbClr val="000000"/>
                </a:solidFill>
                <a:latin typeface="Calibri"/>
              </a:rPr>
              <a:t>Kehilangan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asar karena risiko penyak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500" spc="-1" strike="noStrike">
                <a:solidFill>
                  <a:srgbClr val="000000"/>
                </a:solidFill>
                <a:latin typeface="Calibri"/>
              </a:rPr>
              <a:t>Kehilangan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asar karena karantina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iaya pengendalian </a:t>
            </a:r>
            <a:r>
              <a:rPr b="0" lang="id-ID" sz="2500" spc="-1" strike="noStrike">
                <a:solidFill>
                  <a:srgbClr val="000000"/>
                </a:solidFill>
                <a:latin typeface="Calibri"/>
              </a:rPr>
              <a:t>yang harus dilakukan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merintah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musnahan dan pembuangan </a:t>
            </a:r>
            <a:r>
              <a:rPr b="0" lang="id-ID" sz="2500" spc="-1" strike="noStrike">
                <a:solidFill>
                  <a:srgbClr val="000000"/>
                </a:solidFill>
                <a:latin typeface="Calibri"/>
              </a:rPr>
              <a:t>(disposal) pada saat darurat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nyak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Kompensasi bagi petani yang ter</a:t>
            </a:r>
            <a:r>
              <a:rPr b="0" lang="id-ID" sz="2500" spc="-1" strike="noStrike">
                <a:solidFill>
                  <a:srgbClr val="000000"/>
                </a:solidFill>
                <a:latin typeface="Calibri"/>
              </a:rPr>
              <a:t>kena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mpak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ndapatan yang hilang jika peternakan harus dikosongka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500" spc="-1" strike="noStrike">
                <a:solidFill>
                  <a:srgbClr val="000000"/>
                </a:solidFill>
                <a:latin typeface="Calibri"/>
              </a:rPr>
              <a:t>Tambahan biaya karantin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600" spc="-1" strike="noStrike">
                <a:solidFill>
                  <a:srgbClr val="558ed5"/>
                </a:solidFill>
                <a:latin typeface="Calibri"/>
              </a:rPr>
              <a:t>Diskusi fin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600" spc="-1" strike="noStrike">
                <a:solidFill>
                  <a:srgbClr val="000000"/>
                </a:solidFill>
                <a:latin typeface="Calibri"/>
              </a:rPr>
              <a:t>Rangkuman ses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konomi digunakan untuk menghitung dampak penyaki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biaya dan manfaat pengendalian penyak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Penyakit memiliki dampak ekonomi terhadap produksi ternak melalui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Peningkatan biaya ata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Pengurangan nilai produk yang dihasilk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Dampak penyakit bisa langsung atau tidak langsu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Dampak n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on-finan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al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tidak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pat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dihitung secara finansial tetapi bisa sangat pen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Keputusan pengendalian penyakit bergantung kepada berbagai faktor, salah satu fakt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ya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adalah analisa ekono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600" spc="-1" strike="noStrike">
                <a:solidFill>
                  <a:srgbClr val="c00000"/>
                </a:solidFill>
                <a:latin typeface="Calibri"/>
              </a:rPr>
              <a:t>Tujuan dari sesi in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2500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Pada akhir dari ses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serta mampu untuk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Menerangkan tentang dampak penyak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Menentukan dampak langsung dan tidak langsung penyak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558ed5"/>
                </a:solidFill>
                <a:latin typeface="Calibri"/>
              </a:rPr>
              <a:t>Apa itu ekonomi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alibri"/>
              </a:rPr>
              <a:t>Ekonomi adalah ilmu tentang hubungan antara sumberdaya (</a:t>
            </a:r>
            <a:r>
              <a:rPr b="0" i="1" lang="id-ID" sz="2600" spc="-1" strike="noStrike">
                <a:solidFill>
                  <a:srgbClr val="000000"/>
                </a:solidFill>
                <a:latin typeface="Calibri"/>
              </a:rPr>
              <a:t>input</a:t>
            </a:r>
            <a:r>
              <a:rPr b="0" lang="id-ID" sz="2600" spc="-1" strike="noStrike">
                <a:solidFill>
                  <a:srgbClr val="000000"/>
                </a:solidFill>
                <a:latin typeface="Calibri"/>
              </a:rPr>
              <a:t>) dan produk (</a:t>
            </a:r>
            <a:r>
              <a:rPr b="0" i="1" lang="id-ID" sz="2600" spc="-1" strike="noStrike">
                <a:solidFill>
                  <a:srgbClr val="000000"/>
                </a:solidFill>
                <a:latin typeface="Calibri"/>
              </a:rPr>
              <a:t>output</a:t>
            </a:r>
            <a:r>
              <a:rPr b="0" lang="id-ID" sz="2600" spc="-1" strike="noStrike">
                <a:solidFill>
                  <a:srgbClr val="000000"/>
                </a:solidFill>
                <a:latin typeface="Calibri"/>
              </a:rPr>
              <a:t>) dalam suatu sistem produks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alibri"/>
              </a:rPr>
              <a:t>Produk biasanya dijual agar bermanfaat bagi orang (konsum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alibri"/>
              </a:rPr>
              <a:t>Dalam produksi ternak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alibri"/>
              </a:rPr>
              <a:t>Sumberdaya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id-ID" sz="2600" spc="-1" strike="noStrike">
                <a:solidFill>
                  <a:srgbClr val="000000"/>
                </a:solidFill>
                <a:latin typeface="Calibri"/>
              </a:rPr>
              <a:t>input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id-ID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id-ID" sz="2600" spc="-1" strike="noStrike">
                <a:solidFill>
                  <a:srgbClr val="000000"/>
                </a:solidFill>
                <a:latin typeface="Calibri"/>
              </a:rPr>
              <a:t>tanah, hewan, tenaga kerja, pakan, pengobatan untuk kesehatan hewa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dl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alibri"/>
              </a:rPr>
              <a:t>Produk (</a:t>
            </a:r>
            <a:r>
              <a:rPr b="0" i="1" lang="id-ID" sz="2600" spc="-1" strike="noStrike">
                <a:solidFill>
                  <a:srgbClr val="000000"/>
                </a:solidFill>
                <a:latin typeface="Calibri"/>
              </a:rPr>
              <a:t>output</a:t>
            </a:r>
            <a:r>
              <a:rPr b="0" lang="id-ID" sz="2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id-ID" sz="2600" spc="-1" strike="noStrike">
                <a:solidFill>
                  <a:srgbClr val="000000"/>
                </a:solidFill>
                <a:latin typeface="Calibri"/>
              </a:rPr>
              <a:t> daging, susu, telur, kulit, wol,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kotoran/pupuk kandang</a:t>
            </a:r>
            <a:r>
              <a:rPr b="0" lang="id-ID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d-ID" sz="2600" spc="-1" strike="noStrike">
                <a:solidFill>
                  <a:srgbClr val="000000"/>
                </a:solidFill>
                <a:latin typeface="Calibri"/>
              </a:rPr>
              <a:t>dan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arang </a:t>
            </a:r>
            <a:r>
              <a:rPr b="0" lang="id-ID" sz="2600" spc="-1" strike="noStrike">
                <a:solidFill>
                  <a:srgbClr val="000000"/>
                </a:solidFill>
                <a:latin typeface="Calibri"/>
              </a:rPr>
              <a:t>lain yang diproduksi dan diju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id-ID" sz="2600" spc="-1" strike="noStrike">
                <a:solidFill>
                  <a:srgbClr val="000000"/>
                </a:solidFill>
                <a:latin typeface="Calibri"/>
              </a:rPr>
              <a:t>Input</a:t>
            </a:r>
            <a:r>
              <a:rPr b="0" lang="id-ID" sz="2600" spc="-1" strike="noStrike">
                <a:solidFill>
                  <a:srgbClr val="000000"/>
                </a:solidFill>
                <a:latin typeface="Calibri"/>
              </a:rPr>
              <a:t> dan </a:t>
            </a:r>
            <a:r>
              <a:rPr b="0" i="1" lang="id-ID" sz="2600" spc="-1" strike="noStrike">
                <a:solidFill>
                  <a:srgbClr val="000000"/>
                </a:solidFill>
                <a:latin typeface="Calibri"/>
              </a:rPr>
              <a:t>output</a:t>
            </a:r>
            <a:r>
              <a:rPr b="0" lang="id-ID" sz="2600" spc="-1" strike="noStrike">
                <a:solidFill>
                  <a:srgbClr val="000000"/>
                </a:solidFill>
                <a:latin typeface="Calibri"/>
              </a:rPr>
              <a:t> biasanya diukur berdasarkan nilai u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600" spc="-1" strike="noStrike">
                <a:solidFill>
                  <a:srgbClr val="604a7b"/>
                </a:solidFill>
                <a:latin typeface="Calibri"/>
              </a:rPr>
              <a:t>Dampak penyak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4000" y="836640"/>
            <a:ext cx="8496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nyakit memiliki </a:t>
            </a:r>
            <a:r>
              <a:rPr b="0" lang="id-ID" sz="2500" spc="-1" strike="noStrike">
                <a:solidFill>
                  <a:srgbClr val="000000"/>
                </a:solidFill>
                <a:latin typeface="Calibri"/>
              </a:rPr>
              <a:t>dampak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konomi terhadap produksi ternak melalui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ningkatan biaya</a:t>
            </a:r>
            <a:r>
              <a:rPr b="0" lang="id-ID" sz="2500" spc="-1" strike="noStrike">
                <a:solidFill>
                  <a:srgbClr val="000000"/>
                </a:solidFill>
                <a:latin typeface="Calibri"/>
              </a:rPr>
              <a:t> 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ngobatan dan pencegahannya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nurunan </a:t>
            </a:r>
            <a:r>
              <a:rPr b="0" lang="id-ID" sz="2500" spc="-1" strike="noStrike">
                <a:solidFill>
                  <a:srgbClr val="000000"/>
                </a:solidFill>
                <a:latin typeface="Calibri"/>
              </a:rPr>
              <a:t>nilai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roduk, </a:t>
            </a:r>
            <a:r>
              <a:rPr b="0" lang="id-ID" sz="2500" spc="-1" strike="noStrike">
                <a:solidFill>
                  <a:srgbClr val="000000"/>
                </a:solidFill>
                <a:latin typeface="Calibri"/>
              </a:rPr>
              <a:t>produk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n nilainya turu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konomi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enggunakan nilai uang</a:t>
            </a:r>
            <a:r>
              <a:rPr b="0" lang="id-ID" sz="2500" spc="-1" strike="noStrike">
                <a:solidFill>
                  <a:srgbClr val="000000"/>
                </a:solidFill>
                <a:latin typeface="Calibri"/>
              </a:rPr>
              <a:t> (Rp)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untuk memperkirakan biaya penyakit, biaya dan manfaat langkah pengendalian penyak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ebagai pembanding berbagai upaya pengendalia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embantu mengambil keputusan untuk langkah pengendalia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pat diterapkan pada peternakan level individu atau industri, baik di tingkat kabupaten, provinsi dan nasion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600" spc="-1" strike="noStrike">
                <a:solidFill>
                  <a:srgbClr val="558ed5"/>
                </a:solidFill>
                <a:latin typeface="Calibri"/>
              </a:rPr>
              <a:t>Dampak </a:t>
            </a:r>
            <a:r>
              <a:rPr b="1" lang="en-US" sz="3600" spc="-1" strike="noStrike">
                <a:solidFill>
                  <a:srgbClr val="558ed5"/>
                </a:solidFill>
                <a:latin typeface="Calibri"/>
              </a:rPr>
              <a:t>langsung dan tidak langsun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691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nyakit dapat menimbulkan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dampak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konomi terhadap produksi ternak melalu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2400" spc="-1" strike="noStrike">
                <a:solidFill>
                  <a:srgbClr val="000000"/>
                </a:solidFill>
                <a:latin typeface="Calibri"/>
              </a:rPr>
              <a:t>Dampak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angsu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erugia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ya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erjadi saat penyakit berpengaruh langsung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rhadap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jumlah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n mutu produk yang dapat dij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ontoh anthrax mematikan hewan</a:t>
            </a: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lebih sedikit ternak yang dapat dij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2400" spc="-1" strike="noStrike">
                <a:solidFill>
                  <a:srgbClr val="000000"/>
                </a:solidFill>
                <a:latin typeface="Calibri"/>
              </a:rPr>
              <a:t>Dampak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idak langsu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erugia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yang terjadi akibat faktor lain yang berkaitan dengan penyakit (di luar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dampak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ngsung terhadap produksi) yang meningkatkan biaya atau mengurangi nilai produk yang dij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ontoh vaksinasi a</a:t>
            </a:r>
            <a:r>
              <a:rPr b="0" i="1" lang="en-AU" sz="2000" spc="-1" strike="noStrike">
                <a:solidFill>
                  <a:srgbClr val="000000"/>
                </a:solidFill>
                <a:latin typeface="Calibri"/>
              </a:rPr>
              <a:t>nthrax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digunakan untuk memproteksi hewan (dan kesehatan manusia) untuk mengurangi kerugian akibat anthra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600" spc="-1" strike="noStrike">
                <a:solidFill>
                  <a:srgbClr val="4f6228"/>
                </a:solidFill>
                <a:latin typeface="Calibri"/>
              </a:rPr>
              <a:t>Dampak n</a:t>
            </a:r>
            <a:r>
              <a:rPr b="1" lang="en-AU" sz="3600" spc="-1" strike="noStrike">
                <a:solidFill>
                  <a:srgbClr val="4f6228"/>
                </a:solidFill>
                <a:latin typeface="Calibri"/>
              </a:rPr>
              <a:t>on-finan</a:t>
            </a:r>
            <a:r>
              <a:rPr b="1" lang="id-ID" sz="3600" spc="-1" strike="noStrike">
                <a:solidFill>
                  <a:srgbClr val="4f6228"/>
                </a:solidFill>
                <a:latin typeface="Calibri"/>
              </a:rPr>
              <a:t>s</a:t>
            </a:r>
            <a:r>
              <a:rPr b="1" lang="en-AU" sz="3600" spc="-1" strike="noStrike">
                <a:solidFill>
                  <a:srgbClr val="4f6228"/>
                </a:solidFill>
                <a:latin typeface="Calibri"/>
              </a:rPr>
              <a:t>i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ampak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ang 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k 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dapat dihitung dalam finansial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(Rupiah), sepert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Kematian manus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Kerusakan lingkung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eresahan dan sosi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t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ungkin penting dan harus dipertimbangk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an didokumentasik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id-ID" sz="2800" spc="-1" strike="noStrike">
                <a:solidFill>
                  <a:srgbClr val="000000"/>
                </a:solidFill>
                <a:latin typeface="Calibri"/>
              </a:rPr>
              <a:t>ontoh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engendalian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rabies tak dapat dilihat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dampak finansialnya, tetapi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sa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dipertimbangkan dampak non-finansialny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menular ke manusia, orang resah d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600" spc="-1" strike="noStrike">
                <a:solidFill>
                  <a:srgbClr val="c00000"/>
                </a:solidFill>
                <a:latin typeface="Calibri"/>
              </a:rPr>
              <a:t>Ekonomi dan Pengambilan keputus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539640" y="1413000"/>
            <a:ext cx="2808360" cy="863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0" lang="id-ID" sz="24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ono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525600" y="2433600"/>
            <a:ext cx="2808000" cy="865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Calibri"/>
              </a:rPr>
              <a:t>Faktor-faktor tek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507960" y="3429000"/>
            <a:ext cx="2808360" cy="863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Calibri"/>
              </a:rPr>
              <a:t>Pertimbangan politik</a:t>
            </a: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/</a:t>
            </a:r>
            <a:r>
              <a:rPr b="0" lang="id-ID" sz="24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0" lang="id-ID" sz="2400" spc="-1" strike="noStrike">
                <a:solidFill>
                  <a:srgbClr val="ffffff"/>
                </a:solidFill>
                <a:latin typeface="Calibri"/>
              </a:rPr>
              <a:t>s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493560" y="4367160"/>
            <a:ext cx="2808360" cy="863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Calibri"/>
              </a:rPr>
              <a:t>Dampak n</a:t>
            </a: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on-finan</a:t>
            </a:r>
            <a:r>
              <a:rPr b="0" lang="id-ID" sz="24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482760" y="5373720"/>
            <a:ext cx="2808000" cy="863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Calibri"/>
              </a:rPr>
              <a:t>Hambatan angga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ounded Rectangle 10"/>
          <p:cNvSpPr/>
          <p:nvPr/>
        </p:nvSpPr>
        <p:spPr>
          <a:xfrm>
            <a:off x="5580000" y="2273400"/>
            <a:ext cx="2737080" cy="12985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600" spc="-1" strike="noStrike">
                <a:solidFill>
                  <a:srgbClr val="ffffff"/>
                </a:solidFill>
                <a:latin typeface="Calibri"/>
              </a:rPr>
              <a:t>Pengambil keputus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1"/>
          <p:cNvSpPr/>
          <p:nvPr/>
        </p:nvSpPr>
        <p:spPr>
          <a:xfrm>
            <a:off x="5651640" y="4508640"/>
            <a:ext cx="2592360" cy="865080"/>
          </a:xfrm>
          <a:prstGeom prst="ellipse">
            <a:avLst/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ffffff"/>
                </a:solidFill>
                <a:latin typeface="Calibri"/>
              </a:rPr>
              <a:t>Keputus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Straight Arrow Connector 13"/>
          <p:cNvCxnSpPr>
            <a:stCxn id="155" idx="3"/>
          </p:cNvCxnSpPr>
          <p:nvPr/>
        </p:nvCxnSpPr>
        <p:spPr>
          <a:xfrm>
            <a:off x="3348000" y="1844640"/>
            <a:ext cx="2232720" cy="589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3" name="Straight Arrow Connector 15"/>
          <p:cNvCxnSpPr>
            <a:stCxn id="156" idx="3"/>
          </p:cNvCxnSpPr>
          <p:nvPr/>
        </p:nvCxnSpPr>
        <p:spPr>
          <a:xfrm flipV="1">
            <a:off x="3333600" y="2707560"/>
            <a:ext cx="2247120" cy="15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4" name="Straight Arrow Connector 18"/>
          <p:cNvCxnSpPr>
            <a:stCxn id="157" idx="3"/>
            <a:endCxn id="160" idx="1"/>
          </p:cNvCxnSpPr>
          <p:nvPr/>
        </p:nvCxnSpPr>
        <p:spPr>
          <a:xfrm flipV="1">
            <a:off x="3316320" y="2922120"/>
            <a:ext cx="2264400" cy="938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5" name="Straight Arrow Connector 21"/>
          <p:cNvCxnSpPr>
            <a:stCxn id="158" idx="3"/>
          </p:cNvCxnSpPr>
          <p:nvPr/>
        </p:nvCxnSpPr>
        <p:spPr>
          <a:xfrm flipV="1">
            <a:off x="3301920" y="3141360"/>
            <a:ext cx="2278800" cy="1658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6" name="Straight Arrow Connector 25"/>
          <p:cNvCxnSpPr>
            <a:stCxn id="159" idx="3"/>
          </p:cNvCxnSpPr>
          <p:nvPr/>
        </p:nvCxnSpPr>
        <p:spPr>
          <a:xfrm flipV="1">
            <a:off x="3290400" y="3428280"/>
            <a:ext cx="2289960" cy="2377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7" name="Straight Arrow Connector 30"/>
          <p:cNvCxnSpPr>
            <a:stCxn id="160" idx="2"/>
            <a:endCxn id="161" idx="0"/>
          </p:cNvCxnSpPr>
          <p:nvPr/>
        </p:nvCxnSpPr>
        <p:spPr>
          <a:xfrm>
            <a:off x="6948000" y="3571920"/>
            <a:ext cx="1080" cy="937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Calibri"/>
              </a:rPr>
              <a:t>Diskusi &amp; pertanyaa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600" spc="-1" strike="noStrike">
                <a:solidFill>
                  <a:srgbClr val="558ed5"/>
                </a:solidFill>
                <a:latin typeface="Calibri"/>
              </a:rPr>
              <a:t>Latih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Bagi peserta dalam kelompok berisi 4-5 orang</a:t>
            </a:r>
            <a:r>
              <a:rPr b="0" lang="id-ID" sz="2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Waktu 2</a:t>
            </a:r>
            <a:r>
              <a:rPr b="0" lang="id-ID" sz="2900" spc="-1" strike="noStrike">
                <a:solidFill>
                  <a:srgbClr val="000000"/>
                </a:solidFill>
                <a:latin typeface="Calibri"/>
              </a:rPr>
              <a:t>0 meni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tiap kelompok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ilih penyakit </a:t>
            </a:r>
            <a:r>
              <a:rPr b="0" lang="id-ID" sz="2600" spc="-1" strike="noStrike">
                <a:solidFill>
                  <a:srgbClr val="000000"/>
                </a:solidFill>
                <a:latin typeface="Calibri"/>
              </a:rPr>
              <a:t>(berbeda untuk masing-masing kelompok)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ari antar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rucellosis, rabies, HPAI, </a:t>
            </a: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helminthiasi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penyakit mulut dan kuku, </a:t>
            </a: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emorrhagic septicaemia, sampar babi</a:t>
            </a: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 atau CSF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at daftar hingga 10 hal yang bisa dianggap sebagai </a:t>
            </a:r>
            <a:r>
              <a:rPr b="0" lang="id-ID" sz="2600" spc="-1" strike="noStrike">
                <a:solidFill>
                  <a:srgbClr val="000000"/>
                </a:solidFill>
                <a:latin typeface="Calibri"/>
              </a:rPr>
              <a:t>dampak ekonomi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nyakit. Tentukan mana </a:t>
            </a:r>
            <a:r>
              <a:rPr b="0" lang="id-ID" sz="2600" spc="-1" strike="noStrike">
                <a:solidFill>
                  <a:srgbClr val="000000"/>
                </a:solidFill>
                <a:latin typeface="Calibri"/>
              </a:rPr>
              <a:t>dampak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angsung atau tidak langsu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alibri"/>
              </a:rPr>
              <a:t>Bagaimana dampak tersebut diukur?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alibri"/>
              </a:rPr>
              <a:t>Siapa yang menanggung kerugian tersebut?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id-ID" sz="2600" spc="-1" strike="noStrike">
                <a:solidFill>
                  <a:srgbClr val="000000"/>
                </a:solidFill>
                <a:latin typeface="Calibri"/>
              </a:rPr>
              <a:t>individu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ternak, industri/</a:t>
            </a:r>
            <a:r>
              <a:rPr b="0" lang="id-ID" sz="2600" spc="-1" strike="noStrike">
                <a:solidFill>
                  <a:srgbClr val="000000"/>
                </a:solidFill>
                <a:latin typeface="Calibri"/>
              </a:rPr>
              <a:t>seluruh peternak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konsumen, atau pemerintah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3T03:30:53Z</dcterms:created>
  <dc:creator>Evan Sergeant</dc:creator>
  <dc:description/>
  <dc:language>en-US</dc:language>
  <cp:lastModifiedBy>Valeska</cp:lastModifiedBy>
  <cp:lastPrinted>2014-05-26T06:24:42Z</cp:lastPrinted>
  <dcterms:modified xsi:type="dcterms:W3CDTF">2015-03-23T06:40:47Z</dcterms:modified>
  <cp:revision>49</cp:revision>
  <dc:subject/>
  <dc:title>Using iSIKHNAS for Budget Advocacy</dc:title>
</cp:coreProperties>
</file>